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934200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33600" cy="920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66760" y="690120"/>
            <a:ext cx="460224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923400" y="4371480"/>
            <a:ext cx="508644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392904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74368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29040" y="874368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6748411-6AA5-41C2-BF0B-A9A5AB8C2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6676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23400" y="4371480"/>
            <a:ext cx="508644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tunately: ONLY NEEDED TO CHANGE GEN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66760" y="6904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23400" y="4371480"/>
            <a:ext cx="508644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llowed deferring design dec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8A1E-C440-4E0E-BC33-666889BF0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C193-D051-4ADC-850A-D0030EE0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A46D-8F5F-424D-B2E3-2DF40D60B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4B2C-855D-45BA-B4BD-4EE5CD27F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98A6-5E14-4372-8CFB-81D4BBC25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0AFF-EEBB-4110-8278-B1DCEDBF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898C-EBF3-4AD2-A687-C98242F5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B002-2198-4B58-8045-A7FA9E3A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DCE0-5872-4924-83CE-16A5786E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E034-474A-4F77-83F5-38CFAF96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BF31-C38C-4510-B1BF-8E66484F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5401-2EF4-4546-A769-77C6B0C8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FF1B-2445-40B7-87BB-7124F686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25FD-AEBE-4F7D-B2CA-B7CF096C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EC15-C0E1-4D58-B3F1-5B829228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0C72-808A-4FB5-BC5E-B56597AC9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1119-1AF6-4583-A14E-5536901CD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0E9E-3561-4E18-A1DE-D59A1C29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3E6F-0CE2-41A8-9DFC-D62F6770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7662-D52F-40DB-9208-85C8DCCD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7099-5F99-4CA0-AADC-62DD50D8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582A-E3C4-4107-A720-01262209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9590-D8B8-47E9-AF34-489FA1A6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0AE0-B1A3-45E4-BFD9-555BB581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erring User Interface Design Decisions by Generating Web Pages from a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ry Perl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CLC Online Computer Library C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lman@acm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and Gen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at file database of pages with attribu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00"/>
              </a:spcBef>
              <a:buClr>
                <a:srgbClr val="009900"/>
              </a:buClr>
              <a:buSzPct val="80000"/>
              <a:buFont typeface="Symbol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e description of attributed of p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00"/>
              </a:spcBef>
              <a:buClr>
                <a:srgbClr val="009900"/>
              </a:buClr>
              <a:buSzPct val="80000"/>
              <a:buFont typeface="Symbol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gle source of information (e.g., label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00"/>
              </a:spcBef>
              <a:buClr>
                <a:srgbClr val="009900"/>
              </a:buClr>
              <a:buSzPct val="80000"/>
              <a:buFont typeface="Symbol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enable to static evalu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scripts to generate fi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00"/>
              </a:spcBef>
              <a:buClr>
                <a:srgbClr val="009900"/>
              </a:buClr>
              <a:buSzPct val="80000"/>
              <a:buFont typeface="Symbol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y flexible data manipu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00"/>
              </a:spcBef>
              <a:buClr>
                <a:srgbClr val="009900"/>
              </a:buClr>
              <a:buSzPct val="80000"/>
              <a:buFont typeface="Symbol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navigation managed by genera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00"/>
              </a:spcBef>
              <a:buClr>
                <a:srgbClr val="009900"/>
              </a:buClr>
              <a:buSzPct val="80000"/>
              <a:buFont typeface="Symbol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screen layout controlled by genera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st Generation Framed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-oriented commands in top toolb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rce, Search,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ge-specific controls in top toolb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/Previous Page/Record, Wiz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rge main frame with layout guideli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 dialog, Search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ic commands in bottom toolb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p, Prefs, Exit, Feedba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st Generation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advanced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63868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st Generation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records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63868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velopment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scading style sheets not u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E 4 covers Netscape 3, Netscape 4 covers IE 3; few new features work on both 4.0 brows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ld standardize using generation or JaSS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ble "graphics" for speed / localiz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ual menu b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face always set focus on main fra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oids input, scrolling, printing confu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ion of 1st Gen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8000"/>
          </a:bodyPr>
          <a:p>
            <a:pPr marL="23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changed generated fi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rged diffs back into datab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gnored inconsistent UI diff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ge diffs from changing genera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 frame JavaScript wrote to top fra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ly one server access per transa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ashed Netscape 4.0 and IE 3.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used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rd to modify without break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nges were Need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-24696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-level user requirements chang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going process during initial prototyp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teSearch platform chang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ing new features before rele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phic designer involvement increa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rizontal menus not scaling u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ed to reduce certain JavaScript u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working for brows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ed to change framing to f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5th Generation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tabbedsearch" descr=""/>
          <p:cNvPicPr/>
          <p:nvPr/>
        </p:nvPicPr>
        <p:blipFill>
          <a:blip r:embed="rId1"/>
          <a:stretch/>
        </p:blipFill>
        <p:spPr>
          <a:xfrm>
            <a:off x="1828800" y="2000160"/>
            <a:ext cx="594360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5th Generation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tabbedrecords" descr=""/>
          <p:cNvPicPr/>
          <p:nvPr/>
        </p:nvPicPr>
        <p:blipFill>
          <a:blip r:embed="rId1"/>
          <a:stretch/>
        </p:blipFill>
        <p:spPr>
          <a:xfrm>
            <a:off x="1828800" y="2000160"/>
            <a:ext cx="594360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nd Gen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7000"/>
          </a:bodyPr>
          <a:p>
            <a:pPr marL="229680" indent="-2296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d frame layou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iner menu on lef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 frame on to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frame in re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witched to framesets to f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oves named target frames from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erred graphic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ed it can be done at any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d a single-frame Lynx interfa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ing on ADA compli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 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User Interface for FirstSear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bliographic/Fulltext Retriev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arily web-based ac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most 300M records in 80 datab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K's searches / day at 12,000 librar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Architecture for FirstSear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Servers (SiteSearch JaSSI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Language (Jav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ekly Usability Test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day AM - 1 user followed by twea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day PM - 1 user followed by chan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ursday AM - 1 user followed by twea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ursday PM - 1 user followed by overhau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-test of Navigation was Successfu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extensive heuristic evalu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rd Gen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amped all code on SiteSearch s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ed styletables and gadg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mers added new fea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ed training on new Site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iners needed tra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 addition of new fea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mers change simpler generated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s merged into data/genera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 conventions isolated/controll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Generation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fs508adv" descr=""/>
          <p:cNvPicPr/>
          <p:nvPr/>
        </p:nvPicPr>
        <p:blipFill>
          <a:blip r:embed="rId1"/>
          <a:stretch/>
        </p:blipFill>
        <p:spPr>
          <a:xfrm>
            <a:off x="1828800" y="1989000"/>
            <a:ext cx="61722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lections on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paration of interface data from displ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decisions can be deferred, localiz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exibility in use of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l uses, new types of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change: single sour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icult to explain to programmers, marke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 to tell what they contr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 to have faith that details will be handl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lections on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iding compile-time vs. run-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 to see what needs to be dynam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dy for more change, still nervo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ributes are defined in one pl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ts are defined in one pl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add to records and generators to ada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Do it Yoursel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rmine recurring attribu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ture data in manipulable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gin by generating something si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ep an eye out for patter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y to encapsulate design deci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ry Perlm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lman@acm.or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acm.org/~perlm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CLC SiteSearch 3.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eful Web Z39.50 IR ses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rietary web serv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mited entity manipulation / substit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rietary data formatting routi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ute force consistenc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CLC SiteSearch 4.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eful Web Z39.50 IR ses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ug-in web servers (Apach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va-based server-side data manipu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portunity to enhance consistenc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new features to existing man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apt to different types of us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uming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r requirements not yet know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teSearch will ch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mers will be learning Jav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gual-Multitarget Spec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d at Bell Labs for S Sys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ch function had attribu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, purpose, 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ch function argument had attribu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, description, type, dimension, default, test, 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d both to generate target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-based user interface in IF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ine-help in IF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ed documentation in trof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gual-Multitarget Spec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7000"/>
          </a:bodyPr>
          <a:p>
            <a:pPr marL="229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apted to UNIX commands: SETOPT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ch program had attribu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, purpose, 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ch program option had attribu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ag, name, purpose, type, default, test, 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d both to generate target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and-line parser in 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ine help in 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-based UNIX in IF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ed documentation in trof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-Benefit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6000"/>
          </a:bodyPr>
          <a:p>
            <a:pPr marL="226080" indent="-226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ing a record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-188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ied by number of genera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ing an attribut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-188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ied by number of uses in genera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ing an attribut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-188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s propagated to all targ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ing a generator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-188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ied by number of reco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ifying a generator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-188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s propagated to all targ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ge Model for FirstSearch 5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3000"/>
          </a:bodyPr>
          <a:p>
            <a:pPr marL="250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ch page has a standard set of part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, Label, Hel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panel (e.g., form+action, result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ry/Exit conditions/a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s (e.g., Email, Wizar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s are used to generate screen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med interface (GUI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gle screen interface (Lynx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6T20:55:44Z</dcterms:created>
  <dc:creator>Authorized OCLC User</dc:creator>
  <dc:description/>
  <dc:language>en-US</dc:language>
  <cp:lastModifiedBy>Authorized OCLC User</cp:lastModifiedBy>
  <cp:lastPrinted>2000-08-30T15:51:16Z</cp:lastPrinted>
  <dcterms:modified xsi:type="dcterms:W3CDTF">2000-08-30T16:00:52Z</dcterms:modified>
  <cp:revision>20</cp:revision>
  <dc:subject/>
  <dc:title>Deferring User Interface Design Decisions by Generating Web Pages from a Databas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acm.org/~perlman</vt:lpwstr>
  </property>
  <property fmtid="{D5CDD505-2E9C-101B-9397-08002B2CF9AE}" pid="9" name="LinkColor">
    <vt:r8>16711782</vt:r8>
  </property>
  <property fmtid="{D5CDD505-2E9C-101B-9397-08002B2CF9AE}" pid="10" name="MailAddress">
    <vt:lpwstr>perlman@acm.org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F:\WWW\FS\cocacm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