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946320" y="0"/>
            <a:ext cx="303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680000" cy="351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1160" y="4425480"/>
            <a:ext cx="51595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52040"/>
            <a:ext cx="303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946320" y="8852040"/>
            <a:ext cx="303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2BF4-840B-4296-9A9B-006FCD47B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1160" y="4425480"/>
            <a:ext cx="51595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studies have found differences between subjective preference ratings and objective performance measures. Other researchers have argued for separate treatment of these concepts. Our results in a multi-factor multivariate experiment not only supports the contention of other researchers but also adds a new dimension of concern: the use of concurrent vs retrospective rating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y talk today I will present our findings on the relationship between performance and concurrent vs retrospective preference rating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rospective ratings may represent users’ lasting impression after a trial use, but may not be good predictors of performa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urrent confidence ratings of accuracy, in this study, were found to be better predictors of performa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paper, we offer recommendations about how to make the best use of these different evaluation measures, particularly when they diff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1160" y="4425480"/>
            <a:ext cx="51595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 Depend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ould have depended on designer’s intuition only and concluded that Links onlin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n paper were beneficial. In fact, we found they wer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eneficial on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ed versions of the information would be more quickly searched with a traditional index as opposed to cross refer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nly Objective Mea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ould have given us a good basis for decision making but we might have ignored user perce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s thought as indicated by the Retrospective ratings, that links on paper were more effective than without links (index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urrent ratings of confidence mirrored subjects’ actual time and accuracy but the retrospective ratings did not did not do s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delivered a product that printed indexes instead of cross-reference links then it would be useful to know that users thought links were more effe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1160" y="4425480"/>
            <a:ext cx="51595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nly Subjective Mea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we collected only subjective data we would have delivered a system that makes people less prod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a common practice when systems are shown to focus groups, demonstrated at conventions, downloadable off the web for evaluation, or otherwise evaluated by informal interview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nly Concurrent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eem to have more to do with actual performance than retrospective rating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nly Retrospective Ra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rospective subjective ratings were well correlated with our predictions but not with objective performance nor concurrent subjective mea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accept the retrospective ratings as reliable, we are faced with promoting a design that is recalled as being less use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1160" y="4425480"/>
            <a:ext cx="5159520" cy="419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designer I expected a particular trend. Designer’s intuition predicted time was LO &lt; UO &lt; LP &lt; UP which did not correlate well with actual time. In this experiment we wanted to collect data to test these expec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measures objective, subjective, concurrent, and retrospective disagreed in ways that would be difficult to pred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ifferent subsets of data were collected, a software designer might come to unfortunate conclusions; possibly invalid or unpop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valuations collect different subsets of data, if they collect any at all. Thus, they are liable to come to unfortunate conclus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1160" y="4425480"/>
            <a:ext cx="51595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s that I am presenting were observed while researching model based relationship-linking in hypertext as a part of my dissertation work at Ohio State. E-R model was used to automatically generate useful links between related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periment evaluated the usefulness of entity-relationship-links in accessing information online versus on pap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s sought answers to questions in each of four comparison conditions: &lt;DESCRIB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1160" y="4425480"/>
            <a:ext cx="51595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formance of subjects answering the questions was assessed with three dependent 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Completion (Actual) time (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 Accuracy (A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urrent confidence ratings of accuracy (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st-test questionnaire gathered subjective (retrospective) ratings for each condi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rospective Speed (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rospective Accuracy (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rospective Usability (R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1160" y="4425480"/>
            <a:ext cx="51595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designer I expected a particular trend. Designer’s intuition predicted time was LO &lt; UO &lt; LP &lt; UP which did not correlate well with actual time. In this experiment we wanted to collect data to test these expec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measures objective, subjective, concurrent, and retrospective disagreed in ways that would be difficult to pred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ifferent subsets of data were collected, a software designer might come to unfortunate conclusions; possibly invalid or unpopular conclu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valuations collect different subsets of data, if they collect any at all. Thus, they are liable to come to unfortunate conclus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1160" y="4425480"/>
            <a:ext cx="51595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ed Time was based on designer’s intuition and it correlated poorly with Actual Time but correlated with the Retrospective Ratings all of which were cor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 Time correlated poorly with Retrospective Ratings but correlated well with Concurrent Ratings of Accuracy. Low times were accompanied by high ratings of accu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urrent Ratings of Accuracy which had significantly lower confidence for Linked on Paper, correlated well with Retrospective Accuracy and Actual Acccur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 Accuracy varied little across the four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ctual Accuracy did not correlate well with Retrospective Accur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1160" y="4425480"/>
            <a:ext cx="51595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sults have been normalized to be on comparable scales of 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1160" y="4425480"/>
            <a:ext cx="51595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igure shows a combined view of the three meas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 Accuracy (A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oncurrent confidence ratings of Accuracy (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resented as percentages (bars) on the primary Y-axis. To allow for comparisons, the bars for each measure are cluster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 Time is presented as points connected by lines on the secondary Y-axis. Error bars indicate one standard error of the me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1160" y="4425480"/>
            <a:ext cx="51595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ive (Retrospective) results are summarized in this fig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shows a combined view of all three rating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tings of Retrospective Speed (RS), and Accuracy (RA) are presented as bars on the primary Y-ax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rospective Usability is presented as points connected by a line on the secondary Y-axis. Error bars indicate one standard error of the me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0920" y="6872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1160" y="4425480"/>
            <a:ext cx="51595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r’s intuition Predicted Time did not correlate well with Actual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 Time correlated well with Concurrent confidence ratings of accur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ight want to generalize that subjective confidence ratings about accuracy are good predictors of performanc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one would be less eager given that actual accuracy did not differ across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isolated measures becomes even more ten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rospective ratings were all correlated well with predicted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if only subjective ratings were collected one might conclude that designer’s intuition was perfe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retrospective time and accuracy scores seem to have lost the poor performance of the Linked on Paper condition. All conditions were counter-balanced in a latin squ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9220A-6A08-4FC7-BF38-5FD7901B8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3480" y="1726920"/>
            <a:ext cx="83437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3480" y="4194720"/>
            <a:ext cx="83437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C93B0-C6FD-4DC9-BD41-B019A2A64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3480" y="1726920"/>
            <a:ext cx="4071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200" y="1726920"/>
            <a:ext cx="4071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3480" y="4194720"/>
            <a:ext cx="4071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200" y="4194720"/>
            <a:ext cx="4071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5B871-7C1A-41FC-92C8-0CE70EF51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3480" y="1726920"/>
            <a:ext cx="26863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4440" y="1726920"/>
            <a:ext cx="26863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5400" y="1726920"/>
            <a:ext cx="26863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3480" y="4194720"/>
            <a:ext cx="26863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4440" y="4194720"/>
            <a:ext cx="26863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5400" y="4194720"/>
            <a:ext cx="26863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6F7EC-2B64-4CAF-AFB9-0CBE5B6D2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3480" y="1726920"/>
            <a:ext cx="8343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3480" y="1726920"/>
            <a:ext cx="8343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3480" y="1726920"/>
            <a:ext cx="4071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200" y="1726920"/>
            <a:ext cx="4071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39960" y="469800"/>
            <a:ext cx="638784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3480" y="1726920"/>
            <a:ext cx="4071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200" y="1726920"/>
            <a:ext cx="4071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3480" y="4194720"/>
            <a:ext cx="4071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3480" y="1726920"/>
            <a:ext cx="8343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29D3B-8282-42B5-8AD3-877AADF73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3480" y="1726920"/>
            <a:ext cx="4071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200" y="1726920"/>
            <a:ext cx="4071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200" y="4194720"/>
            <a:ext cx="4071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3480" y="1726920"/>
            <a:ext cx="4071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726920"/>
            <a:ext cx="4071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3480" y="4194720"/>
            <a:ext cx="83437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3480" y="1726920"/>
            <a:ext cx="83437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3480" y="4194720"/>
            <a:ext cx="83437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3480" y="1726920"/>
            <a:ext cx="4071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200" y="1726920"/>
            <a:ext cx="4071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3480" y="4194720"/>
            <a:ext cx="4071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200" y="4194720"/>
            <a:ext cx="4071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3480" y="1726920"/>
            <a:ext cx="26863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4440" y="1726920"/>
            <a:ext cx="26863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5400" y="1726920"/>
            <a:ext cx="26863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3480" y="4194720"/>
            <a:ext cx="26863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4440" y="4194720"/>
            <a:ext cx="26863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5400" y="4194720"/>
            <a:ext cx="26863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3480" y="1726920"/>
            <a:ext cx="8343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BF9A0-7703-44A3-B245-CE2431C10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3480" y="1726920"/>
            <a:ext cx="4071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200" y="1726920"/>
            <a:ext cx="4071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0E97C-1B90-4F2E-967C-357B42E1A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F5DE5-C48D-4E44-B869-EA51B55EA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39960" y="469800"/>
            <a:ext cx="638784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2ABFA-77DB-4797-92A1-E902FE766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3480" y="1726920"/>
            <a:ext cx="4071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726920"/>
            <a:ext cx="4071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3480" y="4194720"/>
            <a:ext cx="4071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246E0-1930-4F6F-AEC5-00F09D9D8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3480" y="1726920"/>
            <a:ext cx="4071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726920"/>
            <a:ext cx="4071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200" y="4194720"/>
            <a:ext cx="4071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CEC51-4B58-4F20-A0D1-D1321FB07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3480" y="1726920"/>
            <a:ext cx="4071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200" y="1726920"/>
            <a:ext cx="4071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3480" y="4194720"/>
            <a:ext cx="83437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8593D-B67C-43DA-BA5B-54E755F64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96920" y="258840"/>
            <a:ext cx="1555560" cy="3427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76040" y="1457280"/>
            <a:ext cx="6998040" cy="61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279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714680"/>
            <a:ext cx="832032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93480" y="1726920"/>
            <a:ext cx="8343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FES/IEA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48C1-92ED-4AB3-B6D8-170086168191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6920" y="258840"/>
            <a:ext cx="1555560" cy="342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040" y="1457280"/>
            <a:ext cx="6998040" cy="61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279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451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ifference of Preference Vs Performance Can Differ for Concurrent Vs Retrospective Rat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rinivas Raghava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Qualcomm Inc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ry Perlma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CLC Online Computer Library Cen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ecting Subsets of Da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3480" y="1726920"/>
            <a:ext cx="8343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Dependent variables (designer’s intui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oneous conclusion: Links beneficial online AND on pap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ed documents more quickly searched through inde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Objectiv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d for making decisions but ignores user perce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s thought links on paper were more effectiv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o ratings favored linked on paper vs unlinked (index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delivered printed indexes should note user opin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0F08E-7E33-4001-B635-93DDA90F8F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ecting Subsets of Da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3480" y="1726920"/>
            <a:ext cx="8343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Subjectiv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practice (focus groups, downloaded software e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ed system makes people less produ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Concurrent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to do with actual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Retrospectiv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ing design recalled as less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9F299-C085-4DEC-9D3E-8BF1A76B0E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3480" y="1726920"/>
            <a:ext cx="8343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rospective ratings were less related to objectiv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objective &amp; subjective measures are diffe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to explain the benefits of a more effective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ways to make the most effective design the most positively recei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20F6E-E960-4D04-8850-3FAA29175A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id We Lear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3480" y="1726920"/>
            <a:ext cx="8343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er’s intuition not rel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collected to measure designer-intuition based predictions of performance  (LO &lt; UO &lt; LP &lt; U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ce of Preference vs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measures differed in ways difficult to predi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al Data Col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ing subsets of data would lead to invalid or unpopular conclu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evaluations collect different subsets of data (if an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able to make unfortunate conclu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76056-2184-4271-86E3-7FC27FBB3A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3480" y="1726920"/>
            <a:ext cx="8343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based relationship linking in hyper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-R model used to automatically generate useful links between related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 evaluated links online and paper (cross refs) vs search/index based methods in 4 condi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38080" y="3809880"/>
          <a:ext cx="7620120" cy="2641680"/>
        </p:xfrm>
        <a:graphic>
          <a:graphicData uri="http://schemas.openxmlformats.org/drawingml/2006/table">
            <a:tbl>
              <a:tblPr/>
              <a:tblGrid>
                <a:gridCol w="1371600"/>
                <a:gridCol w="3179880"/>
                <a:gridCol w="306864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nk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based tool (entity-relationship link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-based keyword 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 referenced docu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ed docu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7F602-2DB8-442B-8091-B5EF66AA10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3480" y="1726920"/>
            <a:ext cx="8343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 (Performance) Meas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k completion time - Actual Time (A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Accuracy (A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jective Measur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urrent confidence ratings of Accuracy (C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ospective rat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o Speed (RS)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racy (RS)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003399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ability (R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5B977-8369-416A-942E-7921E8A723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id We Lear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3480" y="1726920"/>
            <a:ext cx="8343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er’s intuition not rel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collected to measure designer-intuition based predictions of performance  (LO &lt; UO &lt; LP &lt; U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ce of Preference vs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measures differed in ways difficult to predi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al Data Col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ing subsets of data would lead to invalid or unpopular conclu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evaluations collect different subsets of data (if an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able to make unfortunate conclu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EA00F-940E-4A2E-ACEC-A5FD090D48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01800" y="18288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726920" y="2895480"/>
            <a:ext cx="5001120" cy="1029240"/>
            <a:chOff x="1726920" y="2895480"/>
            <a:chExt cx="5001120" cy="1029240"/>
          </a:xfrm>
        </p:grpSpPr>
        <p:grpSp>
          <p:nvGrpSpPr>
            <p:cNvPr id="102" name=""/>
            <p:cNvGrpSpPr/>
            <p:nvPr/>
          </p:nvGrpSpPr>
          <p:grpSpPr>
            <a:xfrm>
              <a:off x="1727280" y="3079800"/>
              <a:ext cx="5000760" cy="844920"/>
              <a:chOff x="1727280" y="3079800"/>
              <a:chExt cx="5000760" cy="844920"/>
            </a:xfrm>
          </p:grpSpPr>
          <p:cxnSp>
            <p:nvCxnSpPr>
              <p:cNvPr id="103" name=""/>
              <p:cNvCxnSpPr/>
              <p:nvPr/>
            </p:nvCxnSpPr>
            <p:spPr>
              <a:xfrm>
                <a:off x="1727280" y="3079800"/>
                <a:ext cx="5001120" cy="8452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104" name=""/>
              <p:cNvSpPr/>
              <p:nvPr/>
            </p:nvSpPr>
            <p:spPr>
              <a:xfrm>
                <a:off x="4268880" y="33526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1726920" y="2895480"/>
              <a:ext cx="4762800" cy="368280"/>
              <a:chOff x="1726920" y="2895480"/>
              <a:chExt cx="4762800" cy="368280"/>
            </a:xfrm>
          </p:grpSpPr>
          <p:cxnSp>
            <p:nvCxnSpPr>
              <p:cNvPr id="106" name=""/>
              <p:cNvCxnSpPr/>
              <p:nvPr/>
            </p:nvCxnSpPr>
            <p:spPr>
              <a:xfrm>
                <a:off x="1726920" y="3079440"/>
                <a:ext cx="476316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107" name=""/>
              <p:cNvSpPr/>
              <p:nvPr/>
            </p:nvSpPr>
            <p:spPr>
              <a:xfrm>
                <a:off x="4268880" y="2895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1227240" y="2012400"/>
            <a:ext cx="2373480" cy="1251360"/>
            <a:chOff x="1227240" y="2012400"/>
            <a:chExt cx="2373480" cy="1251360"/>
          </a:xfrm>
        </p:grpSpPr>
        <p:sp>
          <p:nvSpPr>
            <p:cNvPr id="109" name=""/>
            <p:cNvSpPr/>
            <p:nvPr/>
          </p:nvSpPr>
          <p:spPr>
            <a:xfrm>
              <a:off x="1227240" y="28954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476360" y="2012400"/>
              <a:ext cx="2124360" cy="882720"/>
              <a:chOff x="1476360" y="2012400"/>
              <a:chExt cx="2124360" cy="882720"/>
            </a:xfrm>
          </p:grpSpPr>
          <p:cxnSp>
            <p:nvCxnSpPr>
              <p:cNvPr id="111" name=""/>
              <p:cNvCxnSpPr/>
              <p:nvPr/>
            </p:nvCxnSpPr>
            <p:spPr>
              <a:xfrm flipV="1">
                <a:off x="1476360" y="2012400"/>
                <a:ext cx="2124720" cy="883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112" name=""/>
              <p:cNvSpPr/>
              <p:nvPr/>
            </p:nvSpPr>
            <p:spPr>
              <a:xfrm>
                <a:off x="2516400" y="22096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1726920" y="3079800"/>
            <a:ext cx="2366280" cy="1212840"/>
            <a:chOff x="1726920" y="3079800"/>
            <a:chExt cx="2366280" cy="1212840"/>
          </a:xfrm>
        </p:grpSpPr>
        <p:grpSp>
          <p:nvGrpSpPr>
            <p:cNvPr id="114" name=""/>
            <p:cNvGrpSpPr/>
            <p:nvPr/>
          </p:nvGrpSpPr>
          <p:grpSpPr>
            <a:xfrm>
              <a:off x="1726920" y="3079800"/>
              <a:ext cx="2366280" cy="1212840"/>
              <a:chOff x="1726920" y="3079800"/>
              <a:chExt cx="2366280" cy="1212840"/>
            </a:xfrm>
          </p:grpSpPr>
          <p:sp>
            <p:nvSpPr>
              <p:cNvPr id="115" name=""/>
              <p:cNvSpPr/>
              <p:nvPr/>
            </p:nvSpPr>
            <p:spPr>
              <a:xfrm>
                <a:off x="3583440" y="392436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6" name=""/>
              <p:cNvCxnSpPr/>
              <p:nvPr/>
            </p:nvCxnSpPr>
            <p:spPr>
              <a:xfrm>
                <a:off x="1726920" y="3079800"/>
                <a:ext cx="2112120" cy="8452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17" name=""/>
            <p:cNvSpPr/>
            <p:nvPr/>
          </p:nvSpPr>
          <p:spPr>
            <a:xfrm rot="1038000">
              <a:off x="2212560" y="3428640"/>
              <a:ext cx="82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r = -0.49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916200" y="3581280"/>
            <a:ext cx="2665080" cy="810000"/>
            <a:chOff x="916200" y="3581280"/>
            <a:chExt cx="2665080" cy="810000"/>
          </a:xfrm>
        </p:grpSpPr>
        <p:grpSp>
          <p:nvGrpSpPr>
            <p:cNvPr id="119" name=""/>
            <p:cNvGrpSpPr/>
            <p:nvPr/>
          </p:nvGrpSpPr>
          <p:grpSpPr>
            <a:xfrm>
              <a:off x="916200" y="3581280"/>
              <a:ext cx="2665080" cy="711360"/>
              <a:chOff x="916200" y="3581280"/>
              <a:chExt cx="2665080" cy="711360"/>
            </a:xfrm>
          </p:grpSpPr>
          <p:cxnSp>
            <p:nvCxnSpPr>
              <p:cNvPr id="120" name=""/>
              <p:cNvCxnSpPr/>
              <p:nvPr/>
            </p:nvCxnSpPr>
            <p:spPr>
              <a:xfrm>
                <a:off x="1733040" y="4107960"/>
                <a:ext cx="1848600" cy="10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grpSp>
            <p:nvGrpSpPr>
              <p:cNvPr id="121" name=""/>
              <p:cNvGrpSpPr/>
              <p:nvPr/>
            </p:nvGrpSpPr>
            <p:grpSpPr>
              <a:xfrm>
                <a:off x="916200" y="3581280"/>
                <a:ext cx="815040" cy="711360"/>
                <a:chOff x="916200" y="3581280"/>
                <a:chExt cx="815040" cy="7113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1221480" y="3924360"/>
                  <a:ext cx="509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A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"/>
                <p:cNvGrpSpPr/>
                <p:nvPr/>
              </p:nvGrpSpPr>
              <p:grpSpPr>
                <a:xfrm>
                  <a:off x="916200" y="3581280"/>
                  <a:ext cx="560160" cy="526320"/>
                  <a:chOff x="916200" y="3581280"/>
                  <a:chExt cx="560160" cy="526320"/>
                </a:xfrm>
              </p:grpSpPr>
              <p:cxnSp>
                <p:nvCxnSpPr>
                  <p:cNvPr id="124" name=""/>
                  <p:cNvCxnSpPr/>
                  <p:nvPr/>
                </p:nvCxnSpPr>
                <p:spPr>
                  <a:xfrm rot="5400000">
                    <a:off x="1255320" y="3886920"/>
                    <a:ext cx="184680" cy="257760"/>
                  </a:xfrm>
                  <a:prstGeom prst="curvedConnector5">
                    <a:avLst>
                      <a:gd name="adj1" fmla="val -124023"/>
                      <a:gd name="adj2" fmla="val 94405"/>
                      <a:gd name="adj3" fmla="val -124023"/>
                    </a:avLst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125" name=""/>
                  <p:cNvSpPr/>
                  <p:nvPr/>
                </p:nvSpPr>
                <p:spPr>
                  <a:xfrm>
                    <a:off x="916200" y="3581280"/>
                    <a:ext cx="3452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6" name=""/>
            <p:cNvSpPr/>
            <p:nvPr/>
          </p:nvSpPr>
          <p:spPr>
            <a:xfrm>
              <a:off x="1830960" y="4114800"/>
              <a:ext cx="16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(1,510)=87.4, p&lt;0.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095360" y="4107960"/>
            <a:ext cx="2374920" cy="283320"/>
            <a:chOff x="4095360" y="4107960"/>
            <a:chExt cx="2374920" cy="283320"/>
          </a:xfrm>
        </p:grpSpPr>
        <p:cxnSp>
          <p:nvCxnSpPr>
            <p:cNvPr id="128" name=""/>
            <p:cNvCxnSpPr/>
            <p:nvPr/>
          </p:nvCxnSpPr>
          <p:spPr>
            <a:xfrm>
              <a:off x="4095360" y="4107960"/>
              <a:ext cx="237528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29" name=""/>
            <p:cNvSpPr/>
            <p:nvPr/>
          </p:nvSpPr>
          <p:spPr>
            <a:xfrm>
              <a:off x="4676760" y="4114800"/>
              <a:ext cx="77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r = 0.6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475280" y="4290480"/>
            <a:ext cx="5251680" cy="938880"/>
            <a:chOff x="1475280" y="4290480"/>
            <a:chExt cx="5251680" cy="938880"/>
          </a:xfrm>
        </p:grpSpPr>
        <p:grpSp>
          <p:nvGrpSpPr>
            <p:cNvPr id="131" name=""/>
            <p:cNvGrpSpPr/>
            <p:nvPr/>
          </p:nvGrpSpPr>
          <p:grpSpPr>
            <a:xfrm>
              <a:off x="1475280" y="4290480"/>
              <a:ext cx="5251680" cy="852840"/>
              <a:chOff x="1475280" y="4290480"/>
              <a:chExt cx="5251680" cy="852840"/>
            </a:xfrm>
          </p:grpSpPr>
          <p:sp>
            <p:nvSpPr>
              <p:cNvPr id="132" name=""/>
              <p:cNvSpPr/>
              <p:nvPr/>
            </p:nvSpPr>
            <p:spPr>
              <a:xfrm>
                <a:off x="4040280" y="4724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3" name=""/>
              <p:cNvCxnSpPr/>
              <p:nvPr/>
            </p:nvCxnSpPr>
            <p:spPr>
              <a:xfrm flipH="1" rot="16200000">
                <a:off x="4100040" y="1665720"/>
                <a:ext cx="2520" cy="5252040"/>
              </a:xfrm>
              <a:prstGeom prst="curvedConnector5">
                <a:avLst>
                  <a:gd name="adj1" fmla="val 39483333"/>
                  <a:gd name="adj2" fmla="val 50000"/>
                  <a:gd name="adj3" fmla="val 39483333"/>
                </a:avLst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34" name=""/>
            <p:cNvSpPr/>
            <p:nvPr/>
          </p:nvSpPr>
          <p:spPr>
            <a:xfrm>
              <a:off x="2975040" y="4952880"/>
              <a:ext cx="82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r = -0.36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076280" y="1751040"/>
            <a:ext cx="4077000" cy="3722760"/>
            <a:chOff x="4076280" y="1751040"/>
            <a:chExt cx="4077000" cy="3722760"/>
          </a:xfrm>
        </p:grpSpPr>
        <p:grpSp>
          <p:nvGrpSpPr>
            <p:cNvPr id="136" name=""/>
            <p:cNvGrpSpPr/>
            <p:nvPr/>
          </p:nvGrpSpPr>
          <p:grpSpPr>
            <a:xfrm>
              <a:off x="4076280" y="2012760"/>
              <a:ext cx="4077000" cy="3461040"/>
              <a:chOff x="4076280" y="2012760"/>
              <a:chExt cx="4077000" cy="346104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4076280" y="2012760"/>
                <a:ext cx="4077000" cy="3460680"/>
                <a:chOff x="4076280" y="2012760"/>
                <a:chExt cx="4077000" cy="3460680"/>
              </a:xfrm>
            </p:grpSpPr>
            <p:cxnSp>
              <p:nvCxnSpPr>
                <p:cNvPr id="138" name=""/>
                <p:cNvCxnSpPr/>
                <p:nvPr/>
              </p:nvCxnSpPr>
              <p:spPr>
                <a:xfrm>
                  <a:off x="4076280" y="2012760"/>
                  <a:ext cx="4075200" cy="108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39" name=""/>
                <p:cNvCxnSpPr/>
                <p:nvPr/>
              </p:nvCxnSpPr>
              <p:spPr>
                <a:xfrm>
                  <a:off x="8151480" y="2057760"/>
                  <a:ext cx="2160" cy="341604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40" name=""/>
                <p:cNvCxnSpPr/>
                <p:nvPr/>
              </p:nvCxnSpPr>
              <p:spPr>
                <a:xfrm flipV="1">
                  <a:off x="7019640" y="3066480"/>
                  <a:ext cx="1132560" cy="3276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41" name=""/>
                <p:cNvCxnSpPr/>
                <p:nvPr/>
              </p:nvCxnSpPr>
              <p:spPr>
                <a:xfrm>
                  <a:off x="7039080" y="4147560"/>
                  <a:ext cx="1112760" cy="720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42" name=""/>
                <p:cNvCxnSpPr>
                  <a:stCxn id="143" idx="3"/>
                </p:cNvCxnSpPr>
                <p:nvPr/>
              </p:nvCxnSpPr>
              <p:spPr>
                <a:xfrm>
                  <a:off x="7039080" y="5350680"/>
                  <a:ext cx="1112760" cy="4608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44" name=""/>
              <p:cNvGrpSpPr/>
              <p:nvPr/>
            </p:nvGrpSpPr>
            <p:grpSpPr>
              <a:xfrm>
                <a:off x="6470640" y="2895480"/>
                <a:ext cx="920520" cy="2578320"/>
                <a:chOff x="6470640" y="2895480"/>
                <a:chExt cx="920520" cy="257832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6470640" y="2895480"/>
                  <a:ext cx="514440" cy="2578320"/>
                  <a:chOff x="6470640" y="2895480"/>
                  <a:chExt cx="514440" cy="257832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6491880" y="2895480"/>
                    <a:ext cx="471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6472800" y="3924360"/>
                    <a:ext cx="509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6470640" y="5105520"/>
                    <a:ext cx="514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U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6727320" y="3079440"/>
                  <a:ext cx="663840" cy="2210040"/>
                  <a:chOff x="6727320" y="3079440"/>
                  <a:chExt cx="663840" cy="2210040"/>
                </a:xfrm>
              </p:grpSpPr>
              <p:cxnSp>
                <p:nvCxnSpPr>
                  <p:cNvPr id="149" name=""/>
                  <p:cNvCxnSpPr/>
                  <p:nvPr/>
                </p:nvCxnSpPr>
                <p:spPr>
                  <a:xfrm>
                    <a:off x="6727320" y="3261960"/>
                    <a:ext cx="1080" cy="662760"/>
                  </a:xfrm>
                  <a:prstGeom prst="straightConnector1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50" name=""/>
                  <p:cNvCxnSpPr/>
                  <p:nvPr/>
                </p:nvCxnSpPr>
                <p:spPr>
                  <a:xfrm>
                    <a:off x="6727320" y="4290480"/>
                    <a:ext cx="1080" cy="815400"/>
                  </a:xfrm>
                  <a:prstGeom prst="straightConnector1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51" name=""/>
                  <p:cNvCxnSpPr/>
                  <p:nvPr/>
                </p:nvCxnSpPr>
                <p:spPr>
                  <a:xfrm flipH="1" flipV="1">
                    <a:off x="6965280" y="3079440"/>
                    <a:ext cx="19800" cy="2210400"/>
                  </a:xfrm>
                  <a:prstGeom prst="curvedConnector5">
                    <a:avLst>
                      <a:gd name="adj1" fmla="val -2090740"/>
                      <a:gd name="adj2" fmla="val 49991"/>
                      <a:gd name="adj3" fmla="val -2090740"/>
                    </a:avLst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</p:grpSp>
        <p:sp>
          <p:nvSpPr>
            <p:cNvPr id="152" name=""/>
            <p:cNvSpPr/>
            <p:nvPr/>
          </p:nvSpPr>
          <p:spPr>
            <a:xfrm>
              <a:off x="5408640" y="1751040"/>
              <a:ext cx="82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r = -0.4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38640" y="342900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r =0.6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72040" y="4648320"/>
              <a:ext cx="77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r = 0.3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7320" y="3429000"/>
              <a:ext cx="77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r = 0.5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8CC12-FB08-4751-92A4-0BC1D5E78C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63878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 of Meas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666880" y="914400"/>
          <a:ext cx="6850080" cy="55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914400"/>
                    <a:ext cx="6850080" cy="55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74F53-7EBF-428D-A3CF-AC8C02C0EF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ects of Cond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752480"/>
          <a:ext cx="7467480" cy="467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46748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D74EB-0EEF-427B-8C41-FCEBF4510E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jective (Retro) Ratin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295280" y="1523880"/>
          <a:ext cx="6782040" cy="508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78204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C3712-6CF9-4E60-B847-CCDCEEF16F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9960" y="469800"/>
            <a:ext cx="63878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3480" y="1726920"/>
            <a:ext cx="8343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T did not correlate with 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correlated well with C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ize -  CA are good predictors of 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AA did not differ across cond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93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Isolated measures tenu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o ratings all correl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subjective ratings collected =&gt; designer intuition perf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S &amp; RA lost the poor performance of LP cond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F8345-A060-444D-8B44-A0E0331604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6T00:59:29Z</dcterms:created>
  <dc:creator>sraghava</dc:creator>
  <dc:description/>
  <dc:language>en-US</dc:language>
  <cp:lastModifiedBy>Ganesh</cp:lastModifiedBy>
  <cp:lastPrinted>1999-01-25T21:46:42Z</cp:lastPrinted>
  <dcterms:modified xsi:type="dcterms:W3CDTF">2000-07-29T23:48:23Z</dcterms:modified>
  <cp:revision>17</cp:revision>
  <dc:subject/>
  <dc:title>The Difference of Preference vs Performance can Differ for Concurrent vs Retrospective Rating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nikhil@qualcomm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y Documents\Gateway Related\Web for FDD</vt:lpwstr>
  </property>
  <property fmtid="{D5CDD505-2E9C-101B-9397-08002B2CF9AE}" pid="14" name="ScreenSize">
    <vt:r8>3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