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842D-53F5-4B95-85E6-3A8EF7416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: See a box and fill it, see a button and click it -&gt;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ed to allow people to contribute independ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contribution -&gt; partitioning of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: low UI expert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: much prompting -&gt; comment form design an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A: much prompting -&gt; added special codes for regression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you wanted to plan a project failure, this is how you would do it (changing everything in one project), but OCLC had a lot of faith in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design/code ourselves into a corner like 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Java was not going to do it by itself, especially with so many Java no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say “Can’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ed to help all groups get the most of their options, even if they did not know how at first (Never say “You missed your chance to …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purpose: term, index,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-specific parts in &amp;Lang ent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form-specific parts in &amp;Style ent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-specific parts (no language, no format) in &amp;Pages ent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s that pages are consistent, easily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 -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yle - struct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dgets - Java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is defined else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C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y for MSIE 4.x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eSearch already lets us do what we want for all platforms (3.0 brows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 some CSS for fine-grained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al entities set at initial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ng to many differ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IE 3 co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Script true/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size = small/medium/large/un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conditional se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n’t need to know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They are indepen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and math entities most recent addition for Netscape and Lynx and MSIE 3.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 embedded language and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platform-independent sty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entities at runtime (could be at build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: change options/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strings not already extracted and create language 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section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UI (titles, actions, promp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 info + indexes + limiter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-specific (e.g., ILL fo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ection is formatted similarly, so it can have metada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&amp;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allow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at 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ity language used ot locate entities (not available in 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languag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 embedde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language entities and put English-language into language file (differences are noted for translation via ema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entities at runtime (could be at build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lang.ini file separated to allow database group to work independ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the page attributes to create a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 version is one-dimensional so it is easier to under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op entity to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ges with different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levels of help (per db) or uses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is very dynamic - no cost conc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IE - good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scape -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ipts to fi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left i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d 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don’t get to make that decision,” mostly welcomed by program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ing changed terminology, several style revisions (framed to unfram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eatures controlled by INI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old scre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ing the architecture did not help, but general UI rules raised awareness (programmers came for adv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rformance benefits because there are no HTML files (all dynam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abstract, so initial development used generated files, migrated to full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e frames forth $1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al was not to get it right, which is generally hopeless, but to allow us to change what was wr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/benefit: incremental / proportionate / multiplicative (cross-produ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all scre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n 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new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ready for change - no technical bound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oks’ Mythical Man-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rary holdings that catalog with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db search possible because of major standard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t of backed-up demand because of old system inflex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ndant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w NEW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eSearch is Z39.50 IR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major changes to SiteSearch during ou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ended up doing a lot of testing and performanc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nicode note attempted (old dbs were EBCDIC, new are ASC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ing into a requirements nightm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se was one line in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tail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quirements (there is more detail here than in the detailed requirements), but we were running out of resources and patience after a year of writing requir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over: Each 4.0 browser did what the other 3.0 browser did, so 4.0 requirement only added well-known functionalit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s complained about lack of support of 3.0 brows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scape support for HTML 4.0, CSS had limi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d” JavaScript, but allowed for more steps for non-J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scape color-safe pal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ppointment Centr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 MHz Win 95 64 M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0x480 256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 browsers (many libraries would not upgra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4.0, system was not designed for trans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easier the second time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95BC-B2A0-4257-B15F-ED153D9D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470-F944-4BE1-9435-5EC7E8D0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068-BA71-446F-988E-C0306DD9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996-0001-4420-9191-5374D2D0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1A4C-B9FD-4F13-84D3-5FEF9C1D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6187-F39F-4B40-A1C5-599A0A46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2026-B564-478F-B5D1-B9B35941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C316-90B2-4F5A-9129-BE0B4035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E615-A585-4DE0-BEEE-B2C047D8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7826-CE9A-429F-BF20-B48D63B5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386B-D7C4-4B20-9A2E-220734F0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B23-18F5-4A40-BD19-16A1105E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E0FB-7810-4FD3-A04A-23405EDA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C2D7-C524-4941-BF0D-9FD83B77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7868-CB50-4850-9BE9-9F4DE26D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C8E6-502D-431E-AAC8-E6D7C50F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AE0B-9B7C-42AC-97A9-8E2A621B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F0A-4FCD-413B-A470-8694B532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782-C982-4967-9E30-CE11D464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7A5-52E4-463F-843B-0D2FD260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BF7-B67D-4558-8467-D152766F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B65-4E30-485C-AC68-81C162FB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632-24CA-4C04-98DC-62C5049D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7F4B-08E9-42D5-BFCA-59377483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BCB7-25DF-4568-8391-BF79ED322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7EE1-34B3-44D9-800C-85C2D8CB7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clc.org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ewfirstsearch.oclc.org/" TargetMode="External"/><Relationship Id="rId2" Type="http://schemas.openxmlformats.org/officeDocument/2006/relationships/hyperlink" Target="http://www.oclc.org/cgi-oclc/uncgi/fs5.scr.cgi" TargetMode="Externa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w3.org/TR/WAI-WEBCONTENT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oclc.org/oclc/menu/site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FirstSearch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r Interface Architectu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91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ry Perlma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man@acm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ing Research Scient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LC Online Computer Library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l Requirement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vels of Us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(welc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(most naïve us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(most experienced us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(query language us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l Requirement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xt-Only / Accessible Ver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ment for FirstSearch 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ADA-compliant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al experience in th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l Requirement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etter Coordin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: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: load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: requirements &amp; 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: help &amp; 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 design: icons, fonts, colors,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ility: evaluation &amp; re-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l Requirement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We are doomed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als for the UI Architec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 to inevitable requests for changes (due to new requirements, usability, performance,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incremental development (due to so many unknow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r decisions and allow major glob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roach: Partition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Partition: database selection, search,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form-dependent Partition: browser, version, options, hardware (e.g., HT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-dependent Par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unctional Partition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FSPage Obje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 internal identif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title displayed to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lab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short phrase for links in men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-screen help t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-screen status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age-specific contr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form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main form pan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SPage for Expert Sear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exper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gename   = ex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getitle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pagetitle.exper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gelabel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pagelabel.exper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ps     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tips.exper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us   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status.exper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trols   = 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dbinfo.gadget;    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scanindex.gad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thesaurus.gadget; 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news.gad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tion     = /&amp;namespace;/FSQUERY:searchtype=ex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rm       = termex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dex      = indexex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cus      = termex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nel    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dialog.beg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basic.subm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expert.searchbo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expert.inde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advanced.limit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advanced.option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basic.subm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dialog.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SPage for Expert Search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arch bo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archbox   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dialog.rowbeg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font.labelbeg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label for=termexper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label.fi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lab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font.label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dialog.elementbeg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extarea name=termexpert id=termexper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termexper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textare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dialog.element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dialog.row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50960" y="609480"/>
            <a:ext cx="54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OCLC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profit member library assoc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rthering access to the world's information and reducing information cos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,001 libraries, 74 countries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ww.oclc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Union Catalog 43M+ records (10 million non-English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million non-books), 772M+ holdings, 101M+ ILL reques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pert Search (Lynx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urrent database: WorldC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ype search terms and choose limits.  Click on Searc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the reference information on the scre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Search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g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dexed in: [Keyword (kw:)_________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imit t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ear          1990-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cument Type [Books________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nguage      [English___________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ibrary Code 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_] Items in my library (OC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ank by: [No ranking__________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Search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info] [index] [subjects] [news] [help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SPage for Detailed Recor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record]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gename     = record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getitle  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pagetitle.record;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gelabel  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pagelabel.record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ps       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tips.record;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us     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status.record;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trols    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thesaurus.gadget;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ill.gadget;        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holdings.gadget;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email.gadget;      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print.gadget;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tion       = /&amp;namespace;/FSFETCH:fetchtype=record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nel       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dialog.begin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dbsuggest.gad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navigate.gad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record.gad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navigate.gad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dialog.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95280" y="934920"/>
            <a:ext cx="708660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latform-Dependent Partition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place Styles with Ent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up text with entiti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stants, variables, and meth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ErrorBeg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omething bad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Error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Begin = &lt;font color=red size=4&gt;&lt;b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End   = &lt;/b&gt;&lt;/fo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latform-Dependent Partition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dify Entities with Ent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entities to match platform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ErrorBeg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omething bad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Error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Begin = &lt;font color=red size=&amp;ErrorSize;&gt;&lt;b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End   = &lt;/b&gt;&lt;/fo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Size 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screensize=smal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Size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screensize=larg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Size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yle Abstraction/Present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286000"/>
            <a:ext cx="2286000" cy="1447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s/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267080"/>
            <a:ext cx="2286000" cy="1447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2286000"/>
            <a:ext cx="2286000" cy="14479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4267080"/>
            <a:ext cx="2286000" cy="14479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2971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21337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53341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nguage-Dependent Parti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all language with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ErrorBeg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amp;Lang.msg.b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Error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ms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d    = Something bad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hits = Your search &lt;b&gt;&amp;query;&lt;/b&gt; matched no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js   = your browser does not support Java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ationalization/Localiz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2286000"/>
            <a:ext cx="2286000" cy="1447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4267080"/>
            <a:ext cx="2286000" cy="1447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2286000"/>
            <a:ext cx="2286000" cy="14479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4267080"/>
            <a:ext cx="2286000" cy="14479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2971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21337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15200" y="53341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ult of Partition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.ini: all functional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.ini: all platform-dependent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fi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.ini + dblang.ini (Engli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.ini (Spani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.ini (Fren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mplate-Based Page Gene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 lang="&amp;language;" pagename="&amp;F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&amp;F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tit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ody bgcolor="#FFFFFF" &amp;linkcolors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1&gt;&amp;F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tit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F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tip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F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statu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form name="main" method="POS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="&amp;F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a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F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pane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F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control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FSMenu.gadg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FirstSearch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interface to 86 Databas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Cat, ArticleFirst, ECO, NetFirst, 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of records, 6000 full text serials, 2100 image 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,000 libraries, 278,573,421 searc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6 Web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 New Web version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Lo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Dem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apting to Levels of Us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n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asic, Advanced,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 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1 small, 3 small, 1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3, 10-15, 20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ull-text/library,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imple examples, complex examples, reference material on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ynx Text-Only Ver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same style file as graphical, but used vertical page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nx knows that &lt;tr&gt; starts a new line, so tables could be left in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nx-only format entities used to tweak the display: space, bar, break, line, paragraph,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cessibility Issues: </a:t>
            </a:r>
            <a:r>
              <a:rPr b="0" lang="en-US" sz="44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WAI Gu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 attrib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hows popup help on form elements and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ssociates prompts with form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sskey attrib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ssociates Alt-x key with form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attributes: not yet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ordination Iss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 files were easy to edit by non-programmers, but validation scripts were run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ing style and language centralized decisions, providing control to the right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- and small-scale changes were made indepen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mmary of Architec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, Language, and Functional partitions stored in INI files - requires the user interface police, armed with validation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vy dependence on dynamic entity substitution, including page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required a change of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global changes allowed a quick switch from framed to unframed, and later, other  glob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 also evolves easily: adding pages, changing terminology, adapting to new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Perl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lman@acm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acm.org/~perlman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rst Prototype Sear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4" name="advanced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510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rst Prototype Resul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6" name="records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510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cond Prototype Sear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8" name="tabbedsearch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536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rstSearch: The Second Syst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to library hol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to available full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-database sear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ing and s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hesau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wild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 custo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cond Prototype Resul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tabbedrecords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536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1998-11-20 Advanced Sear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3342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1998-11-20 Resul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3342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1999-07-12 Advanced Sear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527364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1999-07-12 Resul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5284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1999-12-15 Advanced Sear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534204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1999-12-15 Resul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5027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al: Retire Related System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Search TTY: 24x80 telnet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C: quer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ollections Online: full text 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Search Web (origi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al: Avoid All Old Problem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pplication layer (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SiteSe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unde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rogramming language (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version of UNIX on new AIX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l Require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ling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of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-on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ly accessible (ADA compli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l Requirement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-Platfor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r: Netscape and Expl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: 4.x (and 3.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Script: available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 size: large, medium,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: Windows, Macinto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down to 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l Requirement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lingu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(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(f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0T16:44:52Z</dcterms:created>
  <dc:creator>Authorized OCLC User</dc:creator>
  <dc:description/>
  <dc:language>en-US</dc:language>
  <cp:lastModifiedBy>Authorized OCLC User</cp:lastModifiedBy>
  <cp:lastPrinted>2000-03-11T18:57:51Z</cp:lastPrinted>
  <dcterms:modified xsi:type="dcterms:W3CDTF">2000-09-01T16:20:28Z</dcterms:modified>
  <cp:revision>24</cp:revision>
  <dc:subject/>
  <dc:title>Web-Based Bibliographic and Full Text Retrieval: Which Features/Which Users?  </dc:title>
</cp:coreProperties>
</file>