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3660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1229E2-233B-4DDF-B11A-EC10082F60C6}" type="datetime3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3660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95EC79-5E33-46BB-9A8B-B73DD126DBA7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on reqs, specs, and execs produce feedback on productive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of usability evaluation is to avoid disasters, and reduce mistakes by identify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ier evaluation reduces mistakes by avoiding them, which is why we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users ask for many features they do not use except in rar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– try the task – do you think a user can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SS – keep it simple, stu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out templates == information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through with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link from library page to access WorldCat “Books etc. in librari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s titl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s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s on Search or hits 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show with nearby libraries highligh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large print, only at downtown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interface development is HCI without the study of majo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I is a system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oks/Text is not sel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type tabs appear at top of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rint version is pushed down to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list, after 2 cassette ver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ny design criteria and use for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– affordances from “intention to achieve goals” to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tion: What can I do here for my go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: Which should I do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: How do I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– feedback about progress toward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, if anything, happen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 I any closer to my go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to avoid overly optimistic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what can kill a user interface – change is inevitably needed for surv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S Multiling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parameters from configuration files - FSRe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more on different metho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usability evaluation – updating existing workshop – easier than 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 workshop?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arn about H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CI Columns and N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er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ale Web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abl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UID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ugust 14 with Keith In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eople perceive, think,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types of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ntional tools and techniques for interacting with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ly changing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 and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 and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types of t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uild systems to help users accomplish their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– meshed with SDLC (in multidisciplinary teams because there is so much to kn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MEMBER THE TRI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– who are your us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ians / pa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 – what are the tasks and task dema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oging / reference / interlibrary lo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– what technology can you use (that can be used by your users on their tasks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– much of the rest of the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lot to kn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has all the skills needed, but you can be part of a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out new input to complement you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FF5-23C6-47D0-A5B6-73DFA103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F07-FCA8-4B4C-A3D2-E3056F13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AAB-246D-4C2B-95CF-CF21203E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BE9-CE95-499B-8E5A-C3C09612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CEF-5426-486A-8024-21EA13CA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13D-81FE-4CD3-9FF2-0FEA5FB9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2AB-3CA4-46B1-A9AA-626DBF63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D27-73D4-4C3A-B7BB-2CEDF8D1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6DB-E2B6-4558-84DC-A2CCED6F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D3D-1CC6-4F18-A6B7-67AB83F5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514-7CD1-46F3-BA6C-B03F2DDF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A71-B92F-4BAC-A9C1-CE811E88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17BA-67CE-4A14-9053-B713EFD2952D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405E-DF58-42A6-8F53-99BDA4392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91520" y="152280"/>
            <a:ext cx="685800" cy="381240"/>
          </a:xfrm>
          <a:prstGeom prst="ellipse">
            <a:avLst/>
          </a:prstGeom>
          <a:solidFill>
            <a:srgbClr val="9900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05920" y="152280"/>
            <a:ext cx="685800" cy="381240"/>
          </a:xfrm>
          <a:prstGeom prst="ellipse">
            <a:avLst/>
          </a:prstGeom>
          <a:solidFill>
            <a:srgbClr val="cc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48720" y="457200"/>
            <a:ext cx="685800" cy="38088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305920" y="762120"/>
            <a:ext cx="685800" cy="380880"/>
          </a:xfrm>
          <a:prstGeom prst="ellipse">
            <a:avLst/>
          </a:prstGeom>
          <a:solidFill>
            <a:srgbClr val="00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cibib.org/tcuid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igchi.org/cdg/cdg2.htm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cibib.org/tcuid/" TargetMode="External"/><Relationship Id="rId2" Type="http://schemas.openxmlformats.org/officeDocument/2006/relationships/hyperlink" Target="http://www.hcibib.org/tcuid/" TargetMode="External"/><Relationship Id="rId3" Type="http://schemas.openxmlformats.org/officeDocument/2006/relationships/hyperlink" Target="http://www.hcibib.org/tcuid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Perlman@oclc.org" TargetMode="External"/><Relationship Id="rId2" Type="http://schemas.openxmlformats.org/officeDocument/2006/relationships/hyperlink" Target="mailto:Perlman@acm.org" TargetMode="External"/><Relationship Id="rId3" Type="http://schemas.openxmlformats.org/officeDocument/2006/relationships/hyperlink" Target="mailto:Perlman@computer.org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Introduction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Interfac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er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man@oclc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ive Developmen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lifecycle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92920" cy="3736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2120" y="5105520"/>
            <a:ext cx="3124080" cy="94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ing mistakes early is che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D52-0544-420B-9CF1-DBB56E6D84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038E7-9C42-4D82-8CCD-51A635B23DF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insto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4724280"/>
            <a:ext cx="3581280" cy="94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real users, not their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3E83-B6CB-4BA4-B63D-BBC496B263CD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EA42E-5D4D-4946-B517-336D25D1523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Analysis: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are the (groups of ) users? Not a fictional user (e.g., who reads manual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real users do? Not what they say they do, but what you observe them do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ight they want to do in the fu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5105520"/>
            <a:ext cx="3581640" cy="94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observe a lot just by watc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C90-30F0-4E8B-A6EC-6870FD62E8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272F2-83C9-4DED-B593-0A2EE9E4FD8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Analysis: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Tasks (Lewis &amp; Rieman, 1994,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Wingdings"/>
                <a:ea typeface="Wingdings"/>
                <a:hlinkClick r:id="rId1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s the background expected of th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what the user wants to do, but not how to d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hing tied to a particular design, avoids biased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very specific with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s specific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complete and realistic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a step in isolation, requires integration of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through the tasks for re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8BA-073D-476B-ADF3-A599FEF7FD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B2681-E7B1-4FD6-AF84-9419BB8B554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Analysis: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follow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 library near 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Potter and the Sorcerer’s Stone”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rge pr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undtr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“The Wizard of Oz” (with Judy Garland)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HS t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“Peter and the Wolf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o users have the knowledge/training neede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0DBA-7E06-4715-ACA9-EB3F58E4A8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3571E-5C17-45E9-BDF7-7EF5D6CFC73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ybo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 prototy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ing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p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walk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testing/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FFF-D207-416C-9CDC-C039973C705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9FA19-E7B8-4FE5-AB00-4DF519DC280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esign: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imilar designs can be appli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ill the design support us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ill the design support the tas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priorities of features in the desig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23D-4DF3-4584-AE24-C95AE75AF5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DCA3F-5D7E-4E58-8BDE-5521B271832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esign: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and local navig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m I, how did I get here, where can I 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outs for screen types and sub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/align similar items, separat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light what’s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consistent,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log conventions, Help, Error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, 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 review, user walkthrough, count cl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6839-4BA3-415A-85C5-A79FF7BECC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97D2F-8B65-4845-97B1-C10912F2F79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esign: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85800" y="2057400"/>
            <a:ext cx="3733920" cy="3505320"/>
            <a:chOff x="685800" y="2057400"/>
            <a:chExt cx="3733920" cy="3505320"/>
          </a:xfrm>
        </p:grpSpPr>
        <p:sp>
          <p:nvSpPr>
            <p:cNvPr id="110" name=""/>
            <p:cNvSpPr/>
            <p:nvPr/>
          </p:nvSpPr>
          <p:spPr>
            <a:xfrm>
              <a:off x="685800" y="2057400"/>
              <a:ext cx="3733920" cy="350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120" y="2666880"/>
              <a:ext cx="914400" cy="281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120" y="213372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2480" y="2133720"/>
              <a:ext cx="16002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9000" y="2133720"/>
              <a:ext cx="9144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g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52480" y="2666880"/>
              <a:ext cx="2590920" cy="38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lp Mess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2480" y="3124080"/>
              <a:ext cx="13716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3124080"/>
              <a:ext cx="10666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52480" y="3657600"/>
              <a:ext cx="2590920" cy="1828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in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562720" y="3733920"/>
            <a:ext cx="2438280" cy="1752480"/>
            <a:chOff x="5562720" y="3733920"/>
            <a:chExt cx="2438280" cy="1752480"/>
          </a:xfrm>
        </p:grpSpPr>
        <p:sp>
          <p:nvSpPr>
            <p:cNvPr id="120" name=""/>
            <p:cNvSpPr/>
            <p:nvPr/>
          </p:nvSpPr>
          <p:spPr>
            <a:xfrm>
              <a:off x="5562720" y="3733920"/>
              <a:ext cx="243828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9920" y="3810240"/>
              <a:ext cx="190476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4267440"/>
              <a:ext cx="190476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920" y="4876920"/>
              <a:ext cx="1904760" cy="533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38680" y="3810240"/>
              <a:ext cx="30492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38680" y="4267440"/>
              <a:ext cx="30492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38680" y="4876920"/>
              <a:ext cx="30492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648320" y="2057400"/>
            <a:ext cx="2438280" cy="1447920"/>
            <a:chOff x="4648320" y="2057400"/>
            <a:chExt cx="2438280" cy="1447920"/>
          </a:xfrm>
        </p:grpSpPr>
        <p:sp>
          <p:nvSpPr>
            <p:cNvPr id="128" name=""/>
            <p:cNvSpPr/>
            <p:nvPr/>
          </p:nvSpPr>
          <p:spPr>
            <a:xfrm>
              <a:off x="4648320" y="2057400"/>
              <a:ext cx="243828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0600" y="2209680"/>
              <a:ext cx="228600" cy="152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2209680"/>
              <a:ext cx="228600" cy="152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00600" y="3276720"/>
              <a:ext cx="22860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1480" y="3276720"/>
              <a:ext cx="22860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00600" y="2438280"/>
              <a:ext cx="220968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00600" y="2819520"/>
              <a:ext cx="22096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4D8-3ED0-4F4F-BD96-A94EA75410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6648C-DCAD-499F-9EBD-A4F37717A52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esign: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resultspotter" descr=""/>
          <p:cNvPicPr/>
          <p:nvPr/>
        </p:nvPicPr>
        <p:blipFill>
          <a:blip r:embed="rId1"/>
          <a:stretch/>
        </p:blipFill>
        <p:spPr>
          <a:xfrm>
            <a:off x="2209680" y="3111480"/>
            <a:ext cx="6324840" cy="2986200"/>
          </a:xfrm>
          <a:prstGeom prst="rect">
            <a:avLst/>
          </a:prstGeom>
          <a:ln w="3240">
            <a:solidFill>
              <a:srgbClr val="b2b2b2"/>
            </a:solidFill>
            <a:miter/>
          </a:ln>
        </p:spPr>
      </p:pic>
      <p:pic>
        <p:nvPicPr>
          <p:cNvPr id="137" name="searchpotter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495680" cy="157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06B-48C5-4FA4-A7C8-5228D0709EB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4F979-C9A8-480E-B965-7CA38B54A51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C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Human-computer interaction is a discipline concerned with the design, evaluation and implementation of interactive computing systems for human use and with the study of major phenomena surrounding them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IGCHI Curriculum Development Group, 1992, Chapt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5105520"/>
            <a:ext cx="4724280" cy="1068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matter! If it’s not usable, it’s not use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88A-E201-4587-A69A-DA7F7A9D1E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309BF-852B-4A0C-A785-D3D7B7FFFC3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esign: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resultspottertypes" descr=""/>
          <p:cNvPicPr/>
          <p:nvPr/>
        </p:nvPicPr>
        <p:blipFill>
          <a:blip r:embed="rId1"/>
          <a:stretch/>
        </p:blipFill>
        <p:spPr>
          <a:xfrm>
            <a:off x="2895480" y="3098880"/>
            <a:ext cx="5410440" cy="2997000"/>
          </a:xfrm>
          <a:prstGeom prst="rect">
            <a:avLst/>
          </a:prstGeom>
          <a:ln w="0">
            <a:noFill/>
          </a:ln>
        </p:spPr>
      </p:pic>
      <p:pic>
        <p:nvPicPr>
          <p:cNvPr id="140" name="searchpotternotype" descr=""/>
          <p:cNvPicPr/>
          <p:nvPr/>
        </p:nvPicPr>
        <p:blipFill>
          <a:blip r:embed="rId2"/>
          <a:stretch/>
        </p:blipFill>
        <p:spPr>
          <a:xfrm>
            <a:off x="0" y="1676520"/>
            <a:ext cx="4724280" cy="157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45C-61C2-4833-BE49-DE775C37FB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9D0E5-05F4-4D08-96EA-D8AD0575387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n's Stages of Action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Design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ulfs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818480" cy="2286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71600" y="1676520"/>
            <a:ext cx="1828800" cy="838080"/>
          </a:xfrm>
          <a:prstGeom prst="wedgeRoundRectCallout">
            <a:avLst>
              <a:gd name="adj1" fmla="val -2342"/>
              <a:gd name="adj2" fmla="val 7234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possible inten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1676520"/>
            <a:ext cx="1828800" cy="838080"/>
          </a:xfrm>
          <a:prstGeom prst="wedgeRoundRectCallout">
            <a:avLst>
              <a:gd name="adj1" fmla="val -9722"/>
              <a:gd name="adj2" fmla="val 7821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right ac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676520"/>
            <a:ext cx="1828800" cy="838080"/>
          </a:xfrm>
          <a:prstGeom prst="wedgeRoundRectCallout">
            <a:avLst>
              <a:gd name="adj1" fmla="val -7898"/>
              <a:gd name="adj2" fmla="val 7859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he user complete the ac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5181480"/>
            <a:ext cx="1828800" cy="838440"/>
          </a:xfrm>
          <a:prstGeom prst="wedgeRoundRectCallout">
            <a:avLst>
              <a:gd name="adj1" fmla="val -1300"/>
              <a:gd name="adj2" fmla="val -8541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we closer to the go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181480"/>
            <a:ext cx="1828800" cy="838440"/>
          </a:xfrm>
          <a:prstGeom prst="wedgeRoundRectCallout">
            <a:avLst>
              <a:gd name="adj1" fmla="val -3296"/>
              <a:gd name="adj2" fmla="val -8125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d the feedback me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5181480"/>
            <a:ext cx="1828800" cy="838440"/>
          </a:xfrm>
          <a:prstGeom prst="wedgeRoundRectCallout">
            <a:avLst>
              <a:gd name="adj1" fmla="val -1560"/>
              <a:gd name="adj2" fmla="val -8314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he state of the world chang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AF1-E8C2-4AC2-88B7-B5514B2E58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E0167-01C5-4B22-87E2-6BC3054A6F3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n’s Stages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ant to find a book about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ll use this query on this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ll enter this part here, that part there, and click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ce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results are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pre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seem to be what I was looking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h, here is the book I w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922-9B59-40E1-9856-201C5760F9D1}" type="slidenum">
              <a:t>2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77825-879D-45CD-92B3-152965005E4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I development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tools to support development and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313-264E-498E-8A90-FD6F41877A83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6DBA9-0D3C-4D42-9081-7124C2C1F92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Building: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rdware/software platfor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languages/cult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levels of accessibi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egree of customizabi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kind of help syst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mportant to moni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like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E59-CA23-431D-821F-5A8858E5DBC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7F8C7-E1B8-4493-8519-F78C3E1D1DF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Building: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objects and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ize all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spe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 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105520"/>
            <a:ext cx="3581640" cy="520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hange c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805-11AA-4641-AA87-187D0CFA15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BC9B6-B85B-4D32-A4ED-FAB3F133F13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More about H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I Bibliograph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searchable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ibib.org (books, conferences, journals, we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M SIGCH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Computer-Human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chi.org (conferences and publ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M BuckCH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Central Ohio ACM SIGC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m.org/chapters/buckchi (networ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-Centered User Interfac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wis &amp; Rieman, 1994,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cibib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.org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c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C0C5-A5ED-49CA-8FF0-1253B52F78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0E12A-D90B-407D-A40E-FB7018DB97E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CI Bibliograp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cibib.o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HCI por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K item searchable bibliographic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00 web site webli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to news and resources, suggested reading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hcibib" descr=""/>
          <p:cNvPicPr/>
          <p:nvPr/>
        </p:nvPicPr>
        <p:blipFill>
          <a:blip r:embed="rId1"/>
          <a:stretch/>
        </p:blipFill>
        <p:spPr>
          <a:xfrm>
            <a:off x="4289400" y="1905120"/>
            <a:ext cx="414504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403-6018-4DDC-B3E4-B53035FC2E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43E18-A287-4AA2-9DD1-E69391B4682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M SIGCH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chi.o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M Special Interest Group on Computer-Human 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’s lead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onferences and 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sigchi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4800600" cy="36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0C5-F0D1-4437-A920-DAE5282E803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6C523-22A5-4F2C-9091-ABFDFA6D09A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M BuckCH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m.org/chapters/buckchi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Ohio’s ACM SIGCHI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meetings and 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buckchi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105520" cy="357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DA5-BFA1-4E1B-BD03-9439115428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1C0EC-2574-4EE4-956C-BD9EFF54136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for the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why it is important to include HCI in system design and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how to include HCI (e.g., user-centered design and usability evalu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where to get mor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4952880"/>
            <a:ext cx="5867640" cy="1068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are usually due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 desig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E34-BA58-4AD9-82D0-85BCE637E8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DFBFB-FBFA-4FFE-A37D-3BE578E1011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first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ry to) adopt the user's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next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in a multidisciplinary team and learn something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319-2197-49F9-9CAF-54525C975D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39321-2836-4541-B014-AD91D775E42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ary Per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Perlman@oclc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Perlman@acm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Unicode MS"/>
                <a:hlinkClick r:id="rId3"/>
              </a:rPr>
              <a:t>Perlman@computer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471-6A71-4F90-B38A-DFFA4354B7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E7969-3D23-46BA-9E43-38DE769C192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vs. User-Cent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ti: software and ti: usability) or (ti: usable and ti: software)) and yr: 1990- and ln=eng and dt=b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earchform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419720" cy="2333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71800" y="4952880"/>
            <a:ext cx="5562720" cy="10688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experts prefer an easy user interface for most ta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C3B-4540-4B8B-8BC7-A0CF9BC251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15C03-1230-4148-A662-A62BB243603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CHI CDG on H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631880"/>
            <a:ext cx="7315200" cy="454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7CB-973B-4E82-87C6-7C95E10A10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D641E-C882-4C0A-8D78-4451D3C7ED1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CHI CDG on H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38080" y="1631880"/>
            <a:ext cx="7315200" cy="4540320"/>
            <a:chOff x="838080" y="1631880"/>
            <a:chExt cx="7315200" cy="4540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838080" y="1631880"/>
              <a:ext cx="731520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838080" y="1631880"/>
              <a:ext cx="7315200" cy="454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124080" y="17524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41148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41148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514600" y="2514600"/>
            <a:ext cx="1752480" cy="1752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2514600"/>
            <a:ext cx="1752840" cy="1752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514240" y="4267080"/>
            <a:ext cx="350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5943600"/>
            <a:ext cx="2133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579132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100-E9E1-4FEB-A341-6287D88928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3342F-7CB8-423F-A298-8CA289B6A8A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disciplinary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skills are needed to build systems that meet users’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s many skills are needed to build systems that do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disciplinary teams ar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s/users,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gnitive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i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hrop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82B-3FE7-431E-987C-5D682966D384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725B0-FDB6-4644-9C73-63F72BD27D5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s Support User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-centered / task-centered development methods focus on making users more productive on their tasks. The system is merely a means to an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user interface is one that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vi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at fades into the background as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 on thei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s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486400"/>
            <a:ext cx="289584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415-F4B2-4E0D-923E-BE2243CD12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40D50-6B0A-4593-9706-42D2F1BFDF3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/Task-Centered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user/task needs in conjunction with other measures of system accept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 u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bility Criteria (from Nielsen, 1993, p.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Lea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fficient to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Re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w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jectively ple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952880"/>
            <a:ext cx="3124080" cy="94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's not usable, then why buil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8E4-0C29-47AA-94A6-B7E1270CEA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CDB71-58D3-4111-9E14-5B3875D7DD1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14:40:50Z</dcterms:created>
  <dc:creator>Authorized OCLC User</dc:creator>
  <dc:description/>
  <dc:language>en-US</dc:language>
  <cp:lastModifiedBy>Authorized OCLC User</cp:lastModifiedBy>
  <cp:lastPrinted>2001-01-09T15:20:59Z</cp:lastPrinted>
  <dcterms:modified xsi:type="dcterms:W3CDTF">2001-07-28T00:44:02Z</dcterms:modified>
  <cp:revision>53</cp:revision>
  <dc:subject/>
  <dc:title>A Brief Introduction to Human–Computer Interaction</dc:title>
</cp:coreProperties>
</file>