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6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E2C5-06F5-432C-8762-A5BB94C5572A}" type="datetime3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1AE2-5CC9-4C38-93AC-566FB1024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types have a way of becoming production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edium project, benefit/cost max at 4, good to 16 [nielsen93b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time? try it yourself and double it, or triple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will cover methods most applicable to early states of 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pection methods make YOU a better critic of des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naires help you gather more structured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return later to cover other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sue: start from scratch or from previous work that has been sa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 tasks - use different parts of a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sue: start from scratch or from previous work that has been sa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 tasks - use different parts of a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schedule during a fire al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deo setup covered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schedule during a fire al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deo setup covered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schedule during a fire al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deo setup covered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thical Acceptability of the Resear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ight need to weigh the scientific and human valu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isk to the Su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is should be a primary ethical conce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thical Treatment of Subjects by Ot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searcher retains responsibility for ensuring ethical pract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airness and Freedom from Exploi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searcher must clarify and honor obligations/responsibil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bligation for Obtaining Informed Con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bjects allowed to make an informed decision to particip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reedom from Coercion to Particip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bjects (students, employees) must have latitude to dec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tection from Discomfort, Harm, &amp; Dan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bjects protected from/warned about discomfort/stress [schrier92]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xplaining the Nature of the Resear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ubjects should be debriefed, to the extent possi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.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moving Undesirable Consequen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searchers responsible detect/remove even long-term eff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rticipant Anonymity, Data Confidential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searchers should explain that data are confiden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etails later under specific metho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ver evaluation ear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know how success will be meas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based on your own observ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, Did you know about X?  Why didn't you use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investment compared to the cost of recruiting and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-10 per hour or a small gift for accessible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-50 for many classes of users for commercial 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based on your own observ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, Did you know about X?  Why didn't you use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investment compared to the cost of recruiting and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 methods as an evaluation 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s -&gt; heu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elines -&gt; checkl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in writing the report -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ing/Interpreting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cuomo9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is always interpreting feedback with expec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Repeats Comm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formed wrong intention because of poor state feed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Selects Wrong Comm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does not know current state (mode err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more feed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Hits Wrong Key / Selects Wrong 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coordination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rt/send next to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info is only available by observing real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they perform realistic tas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we ask users for suggestions for desig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doctors ask patients what treatment they should u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of usability evaluation is finding problems, not getting feedback about how wonderful a design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for evaluator to focus on the most irritating point – the pink sc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 think-aloud with a stap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sk all! -- only what is important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ci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f these would change the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you offer a midpoint on the sca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quantitative information can you realistically gathe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lia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the rating scale have real world analogues, like letter grad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(reqs) with interviews, questionnaires, paper prot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(design) with formal methods, medium fidelity prot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require new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(build) with user testing, usage s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require new build (bugs), design (e.g., layout), analysis (reqs. wro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demographics as covari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the design right is not the go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ill be 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ill eventually need to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nused systems do not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ubation exercise – how to measure success (of failure) for a search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5451-6F1E-4320-B7AA-24F364A4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9187-BCC9-4965-9689-0F5FC841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8B37-3FE7-4539-A513-CD3E2A443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18DE-D3C3-4475-A886-860FDD1D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5D2C-28E7-4F4E-8F59-4C6D02F7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0E4D-0B9D-4EF8-AE23-44CFFB01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9BD9-4845-4458-8833-A8328344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C852-095A-4866-89A6-CD99ACE3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F016-152F-4964-A9F1-AF7887CC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FAA4-6B20-4AA9-B62D-FCC82A42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DC38-9696-4181-9CFC-78AEAFB9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7AF7-6ABC-4AB5-ABCF-F74DCFC9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821F-99C3-4D90-AB78-3CE04299DC80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EC02-4AF3-4AF6-878B-DDBCF8327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hcibib.org/bs.cgi?searchtype=bookmark&amp;query=J.SIGCHI.25.1.28" TargetMode="Externa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hcibib.org/bs.cgi?searchtype=bookmark&amp;query=E.Nielsen.94" TargetMode="Externa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hcibib.org/bs.cgi?searchtype=bookmark&amp;query=C.CHI.90.235" TargetMode="External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http://hcibib.org/bs.cgi?searchtype=bookmark&amp;query=C.CHI.88.213" TargetMode="External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hyperlink" Target="http://www.acm.org/perlman/question.cgi?form=QUIS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ractical Usability Evalua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y Perl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LC Online Computer Library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1] Introduction :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ost-Benefit of Usability Testing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 Evaluation is Cost-Eff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bias94, karat90, mantei88, mayhew90, nielsen93b, nielsen94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bility is Major SW Development Cost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-60% of code (then there is training and the Help Des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Detection of Problems 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s found in later stages cost more to f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bility Can Increase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ter reviews, more satisfied/productive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bility Can Reduce Cost of New Rel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 code/documentation 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Shows Tangible Dollar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:1 for small project, 100:1 for la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35C0-BBF4-4CCA-9E75-6378B440EA7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A892AA-59A4-4DA2-8AA3-C5B74254536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1] Introduction : Prototyping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Evaluating Before Implementa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totype is a Mock-Up of 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oratory, evolutionary, throwaway [virzi89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might be added in successive versions (iterative refin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VOLUTIONARY proto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-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fficient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HROWAWAY proto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5F27-77DF-43AB-A1EB-36BD89F41C6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5BA10-D18D-4343-8B40-5050051F10F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1] Introduction : Prototyping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Goals of Prototyping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echnical Fea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risky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New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rify/communicate req.’s, experimental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XPLORATORY proto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types of front ends are often used as a form of spec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key word here i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VALU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Investment Before Product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 effort, time, cost (too often, becomes produ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8BDA-66A8-4F75-A798-725B22CC991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E9A22-7495-4A68-84C0-294271230F2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1] Introduction : Prototyping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rototype Design Tool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cil and Paper / Draw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information without any implementation [muller9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ination / Theater (Wizard of O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ated functionality [gould8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/Prototype Devel.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thing that helps evaluation come ear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CE05-18C7-4464-A1D6-1031E76DADD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25041E-9597-424D-9BCA-D48088C859B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[2] User Testing Step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fore User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r preference focus groups, surveys; Expert insp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ing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ch users to test, and how man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chmark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the users will do; different users imply different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fore the User Arr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vanced set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User Arr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paring the 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oose methods that suit your needs / constr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the User is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nal bookkee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in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framework for interpreting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82760" y="556272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ssom 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3F4E-73C4-4D23-8050-CFB9F87291A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F8DF6-3845-4E1A-AABB-46171DAD8D3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Sampling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1a. Sampling : Which Users?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he System Being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ystems may be designed for experts, others for all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ve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d/expected knowledge, experience, education,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ified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classes are proportionally samp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ased Samples: Designers/Program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lkthroughs useful pretest, but potential limits on gener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can't put themselves in the role of a naive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, Realistic Users Must b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beta users, (temp.) employees, possibly students/fri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13560" y="1413000"/>
            <a:ext cx="22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Rosenbaum 89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A638-A422-4883-9BEF-9E31ECEE7C6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A8D478-928E-4B06-9275-A30A73AAD51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Sampling : Screener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1a. Sampling : Screening User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a Scre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usable by screening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wchart format for telephone cont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to read, when to terminate (early, if possi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relevant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 desired percentages (e.g., Mac vs. Windows., M/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alize all judgments (e.g., user level with applic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they name company, product, 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03D8-8DB2-4299-8C51-B291AF25711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4C1DC-4166-460E-8751-28B0BFFE5E2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Sampling : Screener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1a. Sampling : Screening User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1120" y="1598760"/>
          <a:ext cx="7751520" cy="438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598760"/>
                    <a:ext cx="7751520" cy="43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BE16-2353-45A2-8BFA-F5A7375E02E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42B0C5-0FBB-4709-9D48-A83195A81B0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Sampling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1b. Sampling : How Many Users?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't Test ALL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 expensive, too much time,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Generalize from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that our samples are representative and unbi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mon Sense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based on larger samples are more stable/believ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0-1-MANY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 evaluation, 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ome evaluation, 2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ome d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ost Evaluations, 3 Users is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ome consistency, for modest effort; most method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ugge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w of Diminishing 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 the number of users for a quantitative dif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F33D-6DBA-4D31-BBEC-F9CAE0F4D86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B742DD-6928-453B-A240-38B4FC0D0CE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Tasks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2. Benchmark Task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Tasks that Exercise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v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't test all possible uses of mos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istic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tivate users and provide valid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All System Functions (Content Valid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 users to tour all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 Reasonable Amount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s on type of system, users (30-60 mins...several da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ed on Instruction She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out them, users may wander or miss p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Clear 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/evaluator should know when the task is d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1F65-0F0B-4ACE-881D-7A7E0AB831C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4B1191-F560-4686-9090-659A8C59E9B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2560" y="2035080"/>
          <a:ext cx="7793280" cy="39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035080"/>
                    <a:ext cx="7793280" cy="39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C5F2-3A13-4A14-B252-CF5816E6216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A41EA-3B2C-4632-ACFF-A9A1FDDA032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Tasks : Types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2. Benchmark Task Type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Simple to Complex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up and Exit, getting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mplishing Simple Tasks - fe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es of Simple Tasks (Comple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itions of Simple Tasks (Comp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es of Compositions of Simpl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 test th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changes the tasks, sometimes changes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ystems Must be Tested in Pi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parts of a system are ready at different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 groups of tasks for different p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learned in one part may be applied to an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D3CE-FB9E-4DE8-9FAA-B6AD1B6C973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5BDFFF-DADA-477C-9B21-4116A520426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Tasks : Example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2. Task Construc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bliographic Retrieva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search, Boolean comb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/wildcard matches, upper/lower case, relations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/OR/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fields,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ing/decreasing within each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ed fields, user-defined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ic formatting of selected fields, formatting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, e-mail, save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0320" y="4421160"/>
          <a:ext cx="7680240" cy="156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0320" y="4421160"/>
                    <a:ext cx="768024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49EA-FA5F-4F32-BBC9-7AEB2810FE2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A92EE9-43DB-4311-B042-3801B310A4E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Tasks : Example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2. Task Construc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all papers by Shneider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rt these papers by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w only the titles of these pap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Tasks within Part of 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all books and papers by Foley or Van D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all papers cited by Perlman and Niel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rt books by date and by author within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und Tasks across Parts of 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all books by Carroll and sort by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date and title of papers by Hend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und-Complex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8722-7267-4E5D-86FB-97B3D895276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2C926B-6772-4AFF-A69C-6163CE02FC4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Preparation : Supplies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3. Before the User Arrive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lies to Have on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/ Task De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nair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nt / Non-disclosure Form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nk Video Tape(s)/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Paper and Pen (or notebook compu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 checklist to ensure you get the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C996-6208-4932-BE41-260C6C8B7B4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1C39D-DB35-409B-8CB1-7267AE25E04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Preparation : Setup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3. Before the User Arrive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m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Disruptions/Dist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windows, do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ne ringer/speaker 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rning sign outside door (Please Do not Disturb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inds closed to limit g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Computer and Check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sure all peripherals are installed and wo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up, check folder/directory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Work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will need space for task descriptions, possibl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ent screen to control glare, NumLock 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3D7B-4CE8-42B6-85F2-7FFDE0FAAE2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61C60-A712-4B44-AF14-43A991E4081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Usability Test in Progress</a:t>
            </a:r>
            <a:br>
              <a:rPr sz="4800"/>
            </a:b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Date:     /     /</a:t>
            </a:r>
            <a:endParaRPr b="0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PLEAS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DO NO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DISTUR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B5B3-920C-405D-8708-E7C519742CB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E6209E-86FF-463B-84EC-1556BD88BD8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Showtime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4. When the User Arrive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nt and Comp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PA82, moroney94, mackay9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the User for Particip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users will not show up, especially during holiday seas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 of Purpose of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want to evaluate the system, not the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the User Comfor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them collaborators, call the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rticip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nt Form Signing (exa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ains what is to be exp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Disclosure Form Sig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ain the sensitivity of trade secr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ease of rights to ownership of ideas during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B4D5-CAB0-48EC-B8EB-47E014057A2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6D4851-D93B-4BE0-A1EC-A6D718B89B4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Showtime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4. When the User Arrive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Training, if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sure user knows/has pre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want to record these in the questionn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Trials, if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C05F-126B-4C6F-BC91-B9C8FB9D7F7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02539-4F54-418D-A265-6A98AE8C5F0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Showtime : Ethics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4. Ethics of Research with Human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A 1992 Ethical Principle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ical Acceptability of the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to the Su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ical Treatment of Subjects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rness and Freedom from Explo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tion for Obtaining Informed Con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dom from Coercion to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s (students, employees) must have latitude to dec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ion from Discomfort, Harm, &amp; Da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laining the Nature of the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s should be debriefed, to the extent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ing Undesirable Con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cipant Anonymity, Data Confidenti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archers should explain that data are confid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81B3-B328-446C-B437-F51B9086F83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ABD3C-BFDD-4EAD-9115-FFFFACD3275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5. Data Collec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Maintain Natural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ethods Covered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Notes (even if reco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Avoid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fic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ed L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7D7C-4545-402F-B8AE-82691208051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6310B4-5617-4650-940E-4D1023F1EEF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[1] Introduction to General Concept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 of Usability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is it related to other types of evalu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y evaluate usabilit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steps should be follow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methods should be us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061F-B717-4146-8441-DE16D94E09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01E0C7-DE4C-459D-8D6F-04252FC0D17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Debriefing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6. After the User is Don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minister Questionn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You Ask Potentially Biasing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tain equivalent conditions for all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riefing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if they could not do anything, even if they were !@/?#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that You are Evaluating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ser may have had problems and may feel bad/ang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User for General I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follow up with (potentially biasing) 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he Data Will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find problem areas in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mburse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E29A-F822-4315-A5BD-137A73F2322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CC2485-A306-4D4D-B211-6748C2A1998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Saving Data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6. After the User is Don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ing/Sav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 of a detailed procedural check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Disk/File with User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-prot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Video with User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-prot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Questionnaire with User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user ID to con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Your Notes with User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ve nothing to ch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User ID to Consen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ep confid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D046-8E19-4031-8104-71422C77DFB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D595EE-992C-4E05-B6F5-26F161B4D30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7. Interpreting Data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behavior (program use and comments) is attributable to different stages of system use and imply different problems and remed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blem at an earlier stage or low-level may obscure problems at later or higher-level st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s for Interpreting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ey &amp; Van Dam's Leveled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n's Stages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Guidelines an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86C0-9B7B-4A34-9EB0-265AEC054CE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975747-B5E4-4B90-BCB2-105C344B4A3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Interpreting Data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Foley &amp; Van Dam’s Level Model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ual : Mental Models, Metaph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usual to get comments at this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s at this level may require a complete re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ntic : Meaning of System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omain specific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s suggest changing functions to better meet user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ctic : System Structure, Conv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and feel issues begin to apply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s are fixed in the use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al : Input / Outpu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e-tuning of design (but do not start at this lev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problems at this level are easy to f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561D-1847-4FD2-BE26-15C6FF998E1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34923-D42E-4EC2-8BC3-71ADE398DE9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2] User Testing Steps : Interpreting Data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Norman’s Stages of Ac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ulf of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ffordanc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rom intention to achieve goals to 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ing In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are the possible inten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ng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are the possible actions to accomplish the inten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ng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is the needed speed and accurac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ulf of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bout progress toward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iving State of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has the state of the world chang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ing State of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does this change of state mea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ng Change of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does this affect approaching goa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5689-3AC8-4159-851E-8911A744F88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AD215-B599-460E-9BBE-9AE0DFBB99B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ractical Evaluation Method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pec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systems without user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s (developers, designers) provide structured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de evaluators through criteria before user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a substitute for user testing (but can pick up some problems earlier and at lower co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: Checklists, Heuristic Evaluation, Cognitive Walkthroug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al Skills and 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ors watch users use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n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ther both objective and subjectiv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s give opinions in structured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: User background questionnaires, Opinion questionn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Instr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watches the users use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8E25-2296-429A-B765-F85663BF066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E311F-4BCE-42B7-A41E-E9B08EB52DB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thods :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uggestions for Adopting Method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use one method immediately, and over time add other methods to your reperto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thods complement each other, and none requires much training, effort, or c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3749-7543-4002-AAE2-A285A2DCCE9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AF21E-49B1-4890-9368-6616D0022A9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thods :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hoosing an Evaluation Method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ice depends on several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billingsley93,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ck93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, nielsen94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rly ... near 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ors, developers, time constraints, funds, 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itude of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they listen and make chang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in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, number, seve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ies of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 (time, errors) vs. p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3BB8-F650-4D35-9485-31EFD038EB9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117A7-29AB-4198-BA11-AAC4B9E401A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thods :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hoosing an Evaluation Method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2560" y="1600200"/>
          <a:ext cx="7748640" cy="455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600200"/>
                    <a:ext cx="7748640" cy="45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1CBC-5457-4337-97EB-1A021431AA5F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C210A-B39F-4FD9-B081-63424DC4E21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thods :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Inspection Method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bility inspection is the generic name for a set of methods based on hav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pect or examine usability-related aspects of a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bility inspectors can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ability speciali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ut they can also be software development consultants with special expertise, end us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nt or t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other types of profession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fining characteristic of usability inspection i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iance on judg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source of evaluative feedback on specific elements of a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k &amp; Nielsen, 1994, p.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2F0A-7F6C-43AE-A288-0AC0D77775B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D2901B-1A8C-489E-AFC9-6C5FAC1EDEB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1] Introduction :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ontext of Usability Evalua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bility before U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people want to use it? can people learn to use 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it help people do something useful, mo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tl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ve vs. Summative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to improve system usabilit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u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to estimate the overall usabilit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Evaluators vs. User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inspection methods to provide expert opinion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thout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testing can not be replaced by inspec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ing vs.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irical evaluation (testing) with users, with desig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l analysis (verification) with designers, wit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9BC8-EFA8-4E32-A040-F779333C65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747B22-4E14-4EB0-ADD3-D1D8AB7E9C9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Inspection Method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Check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uristic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e Heu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ng Heu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Walkthroug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rcise - Inspection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nielsen94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FAF0-39D8-4CAC-9E88-B41ECA73376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B62C79-8F45-4FBE-B3E6-8EB212A7EBF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Heuristic Evalua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euris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s 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pprox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/evalua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eurist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inci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Discount Usability Engineering”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nielsen89, nielsen90, ..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ittle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 High-Level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ets of Heu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focus attention on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varie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important princi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B0F5-6DA5-4D8D-B2FB-683572D1A20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C6521F-FF79-4B33-9A4C-5F8586E4AF2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 : Heuristic Evaluation 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Nielsen 1993 Heuristic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and Natural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ak the User's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User Memory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Clearly Marked Ex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hortc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Error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 and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C297-0E05-4F0F-B6FF-F0C8ACF8E49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A8C4F-CA33-4392-B868-4F7A5E0CD7B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 : Heuristic Evaluation 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Norman 1990 Principle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Both Knowledge in the World and the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p the user form mental models that aid system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 the Structure of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ensate for human memory limi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Things Visible: Bridge the Action Gul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feedback about what can be done and what is happ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he Mappings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for response compat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 the Power of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it impossible to do the wrong 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errors will be made and design for re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ll Else Fails, Standard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here to existing standards unless there is a better 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9613-7818-4BE3-8B16-F3ACDCF5D76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6A423-6A6A-447D-BEF1-4DB2DE2BD65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 : Heuristic Evaluation 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A Merged Set of Heuristic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Lists Over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expected as they address the same top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Has Unique Foc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accident of omission, or by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s can be Merged for Specific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ain purpose is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vercome the evaluator's limi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s can be Added to Address Specific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evaluation of unusual application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t Another Set of Heu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ng to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and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1466-4065-4C03-AEEA-238FF562B1E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4B052-B54E-426C-92F2-9BBEEBA9384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euristic Evaluation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rged 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Learning the System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Help and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for use without doc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easy-to-use task-oriented doc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Adopt the User's View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ak the user's language (avoid jarg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use of existing knowledge (familiar mental mode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Simple and Natural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oid extraneous information, steps,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should be in a logical natural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Design for Adva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shortcuts (quick keys, customiz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FF33-B103-4EE7-9E76-B146DDA50AB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B6465F-97D3-4D5C-AB98-67352798321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euristic Evaluation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rged 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Adapting to the User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Provide Maps and a Tr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 user a way to preview where to go, what will hap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 the user a way to review / return to previous contex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Show the User What is (Not)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affordances to indicate what can be d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Intuitive Mapp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good response compatibility between controls/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Minimize Memory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 the need to remember across dialog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multiple views for easy comparis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Consistency in the System and t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sure the same term/action has the one mea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here is no better way, conform to a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1831-0461-4B5B-AEEE-29BF4AAF5D8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DE7D6-EEBE-4460-B619-205A7DD514B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euristic Evaluation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rged 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Feedback and Error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timely feedback about all processes, system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Prevent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it difficult to make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Error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gnose the problem and suggest a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Clearly Marked Exits and Error Re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sure user can get out of an undesirable state eas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users will make errors and need to recover previous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E946-79EC-4774-91CF-1A0D4E45FCB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84AB04-DABC-45FF-962E-566912894F3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 : Heuristic Evaluation 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erforming a Heuristic Evalua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abi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pe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Heu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each heuristic to many parts of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heuristics while completing benchmark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Violations into a Database/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or records problems or observer takes notes on evalu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1FEB-98A5-45FA-BFBF-43269A60B72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94EDC-F075-4ADD-ADB2-E209DE18469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euristic Evaluation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erforming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Reporting Form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81120" y="1598760"/>
          <a:ext cx="7751520" cy="470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598760"/>
                    <a:ext cx="7751520" cy="47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3C51-5223-4F5D-B309-0748C67AFD89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D31EA-079F-4AE9-9F12-6FEC04DCCB1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1] Introduction :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User Interface Acceptability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Accep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cial Accep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ctical Accep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ful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t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s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asy to Lea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fficient to 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asy to Reme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ew Err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jectively Plea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at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1120" y="571500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[Nielsen 1993], p.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53F8-0BB7-48D0-83A1-4A708A0553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4276A7-ABEC-471E-ADD6-5B2E8AF3437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euristic Evaluation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Analysis Procedur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 problems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ve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ystem, violated heuristic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ate problem descriptions and solutions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eneral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ode what is learned in styleguide to avoid future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up with discussions of problems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ice evaluators find fewer problems, but training hel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3758-A336-46E2-A34C-C6A05DB3504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7C0D51-94C3-4904-AE50-B90F0B5E721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euristic Evaluation : Analysis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Example Analysi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. Provide Maps and a Tr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tons do not provide status-line help when pressed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using for users to determine previous frame dest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. Show the User What is (Not)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yed out buttons do not provide rollover help (why grayed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logs do not indicate which fields are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. Intuitive Mapp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reen icons are horizontal but online help is vertical and different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. Minimize Memory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ons are difficult to interpret, re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has to re-enter complex codes in different dialo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. Consistency in the System and t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dialogs have help button, some do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dialogs do not follow conventions for Enter/Can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0318-D48E-4D3E-8353-0A7FE399D2B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9CF94F-526B-442A-BC5F-A3C4042BAAB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ognitive Walkthrough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Software Walkthroug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Cases are Walked Through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ers Try to Anticipat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Done Before User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Require Extensive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s Half the Problems in 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: [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ewis9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03F4-BA0E-49ED-8DBF-A86CF974813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D9BE9-314D-476F-8C94-5FFC09C5B05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3] Inspections : Cognitive Walkthroughs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ognitive Walkthrough Procedur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ach Task in a Test Su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a detailed description (prototype/specification) of 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Sequence of Actions Descri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the user interface must perform for each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r Tells a Story about User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the user would perform the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ers Comment on Plausibility (Challe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lack of knowledge/information would cause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use heuristics applied in context of doing a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 What Knowledge Users would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representation of user knowledge of task / 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roblem Predictions to Make Sugg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problem solving in the use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5539-7014-41E6-939F-7B394C505F1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3C9B7-B9FA-426B-8BC4-CEEF04F1821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4] Observation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Observational Do’s and Don’t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1600200"/>
          <a:ext cx="7769160" cy="44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776916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't Guide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want to see how they naturally use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the User Make Mist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don't let them get too frust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the User Tal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neutral prompts be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Not Answer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want to observe the unaided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Let Yourself/Developers Get Def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nk of the humor of the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0EC1-D238-4F24-81F6-0DF2E39DC73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4155D0-781D-4992-AE6B-DF9F61B27D9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4] Observation : Do’s and Don’ts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uggested Questions/Prompt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1600200"/>
          <a:ext cx="7769160" cy="44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776916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these prompts from procedural check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you thinking/trying-to-do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ic prompt to get the user tal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you do in this situation/now/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may bias the user to think in a different 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describe the parts of the scr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can get in the way of natural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expect will happ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after user suggests trying some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at what you expected? 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after the user initiates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CDA6-95B8-4879-AA5A-B5F2314B691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1A806A-DD3A-4E3E-9EC3-7CF19152576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4] Observation : Do’s and Don’ts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Questions/Prompts to Avoid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0" y="1600200"/>
          <a:ext cx="7769160" cy="44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776916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that's g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e bottom of the scr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elp was on the previous scr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id you do t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't do tha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it’s okay to s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’s a bug.  Remember we told you some parts might not work? You’ve discovered something valuable to our develop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E673-F12D-4E8B-B128-C1BE24C74ABD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8D4F47-9391-4CC5-AB07-10541A27D6B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4] Observation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Analysis Tasks for the Observer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0" y="1600200"/>
          <a:ext cx="7769160" cy="44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776916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the users know what to do at each st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users complete tasks (confidently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users use online hel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used misconceptions / err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users frustr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users detect and recover from err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E51F-02C4-46EB-91E6-E5BF960320E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240600-69AB-4958-9A66-C8A5A37AB63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[5] Questionnaire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gather data from many users/places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presenting a consistent (unbiased)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Questionn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User Interface Questionn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naire for UI Satisfaction (QU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ing Questionnaires, Inter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 of Question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rcise - Questionnair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0452-4FF9-44D2-AC9C-CE694EAE94D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494390-D962-4DFB-9646-666F6498E9D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User Background Questionnair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sons to Admin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creen Users Before/After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lude users w/out prerequisite or with unwanted exper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tch Users for Compar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able users try different versions of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xplore Trends During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find some interesting 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it is In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not be obtainable l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67F3-2F7A-4A1F-B532-43FF9698173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CE87A-40B9-41BC-A9B2-39D46B3AC56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1] Introduction :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UI Development Problem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ity of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ices, experts, occasional users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vidual differences can overwhelm other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ity of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r, business, educational, entertainment, 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etypes, CRT, hi-res, voice, VR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a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uy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ives (concerns about bad review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rs (concerns about cost cen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ers (creative contributions, productiv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2170-E413-42B8-9BC3-0092A49E4B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B4C94C-D4F5-4435-B088-6AA3B8E7B6A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 : User Background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ome User Background Question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 ranges can be obtained from exact age, but not vice 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der usually unrelated to performance, not always p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ce, marital status, children, eye-s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of Origin, Nativ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want to test international accep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(Concentration or Special Trai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st level more informative than highest deg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skills (e.g., library) or aptitudes (e.g., spat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erical, management, engineering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Experience / 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years, how intensive, formal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board, mouse, graphical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applications, which brands, which ver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EC4B-42D8-488A-BF0E-55656F20C1D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4BCE6-55C8-44ED-B03B-EED005B2970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imple User Interface Questionnair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Ru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insert your questions her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I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and Negativ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0E53-215F-4FAE-974F-0BC894063C5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2CEA7B-2211-4B51-A690-B5CE9430D60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 : Simple Questionnaire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Getting Started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09480" y="1676520"/>
          <a:ext cx="7750440" cy="433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7750440" cy="43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EB98-5F03-492C-8971-454CE8887FD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91E40-525A-425B-B66F-E999136E7C5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 : Simple Questionnaire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General Running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09480" y="1676520"/>
          <a:ext cx="7718400" cy="405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7718400" cy="40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38E1-FE07-4CF7-AFEB-88241D9EA12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55E557-8150-48B3-9DA5-1D23D3BDEFE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 : Simple Questionnaire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Final Impression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11280" y="1677960"/>
          <a:ext cx="7751520" cy="414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77960"/>
                    <a:ext cx="775152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719E-9C79-46FC-9D8C-8FC5029F52EE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3498F-8A9D-43B4-8D83-472D25C209B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 : Simple Questionnaire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ositive / Negativ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3 most negative points about the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3 most positive points about the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A5A0-AF6E-45DF-A80D-22C9A578589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F80446-4C1C-4092-A92F-E71E7622608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 : Simple Questionnaire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Improvement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your agreement with the following statement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aring the system you just tried to the previous version / the competition /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a 7-point rating scale: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ly disagree / disagree / mildly disagree / neutral / mildly agree /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NA (Not applicable) (if applic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room for comments on each question/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st negative points about the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questions that are no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tion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9B00-5FC6-4580-8912-47558B6DF0F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5FC85-EADE-4300-8067-2A0435371B2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 : QUIS 5.0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Questionnaire for UI Satisfaction (QUIS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ed set of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 point (0-9 ) semantic differ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Reaction (6 ques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 (4 ques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ology (6 ques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(6 ques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pabilities (5 ques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[chin88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679A-633C-433A-AFB9-E25A8953AF5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7CD9B1-EC07-44B2-9702-FD50F172013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 : QUIS 5.0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Overall Reac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rible .. wonder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.. e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ustrating .. satisf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dequate power .. adequat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ll .. stimul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id .. 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74A0-AFB1-471A-8472-794FB5E7D03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69394-6FE0-483F-AE5E-F8EF6352701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 : QUIS 5.0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cree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characters on the screen – hard .. e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ighting simplifies task – not at all .. very m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 of information – confusing .. very 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e of screens – confusing .. very 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4D87-0DFB-4B29-B297-4470428A4BA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B94AED-516D-4818-8F53-3FACBA298BF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1] Introduction :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Iterative Development Lifecycl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1741320"/>
            <a:ext cx="7772400" cy="421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3F10-1014-4F2C-88FF-E8F58F0FE55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E9A214-48A6-43FC-AB3D-4CABACCD563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 : QUIS 5.0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erminology / Informa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terms throughout – inconsistent ..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ology related to task – never .. al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on of messages – inconsistent ..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pts for input – confusing .. 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on progress – never .. al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messages – unhelpful .. 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F2A7-5E78-4364-8038-63974DF1034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29CEB6-45E2-49F7-99AE-4F209BBE487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 : QUIS 5.0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Learning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operation – difficult .. e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ing by trial + error – difficult .. e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ing commands – difficult .. e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ing tasks straightforward – never .. al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messages – unhelpful .. 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materials – confusing .. 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CC2D-6E9B-4350-8071-69FF2AEBB87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71E6FB-D54F-477A-9162-BBE6BCE562C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 : QUIS 5.0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ystem Capabilitie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speed – too slow .. fast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reliability – unreliable .. 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tends to be – noisy .. qu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ing mistakes – difficult .. e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for all levels of users – never .. al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DD76-FFEE-4202-98D2-F9BD1BC2085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47719D-6324-474E-9846-5A3DBB9D066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[5] Questionnaires :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Online Acces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143000" y="1143000"/>
            <a:ext cx="5334120" cy="511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78FB-E504-4BD9-B73F-22861CFB20AA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A1FC4-DDDF-4F09-86CF-158B3F594E1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 :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esigning Questionnaires/Interview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aper, Avoid Expensive Inter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views have many interpersonal issues/confou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should have clear questions with interpretable ans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per forms allow much more data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views allow follow-up to probe reas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Questionnaires Appear Short, Foc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veys should not look too long or they won’t be answ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cus on what you reall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e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 Few Regular Format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n’t use five different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consistent labels and directions (e.g., low is b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ositive forms; avoid (double) negative 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A9AF-DB2E-4FC3-836A-3321466DDD1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E436B-4841-4554-B2B3-7613B2F3ED4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 :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esigning Questionnaires/Interview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ize Quantit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ask TRUE/FALSE questions (can recode scales la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-point scales are common (3 degrees, 2 directions, 1 neut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number forces user preference, but user may not li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chor endpoints with clear labels (users will avoid the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mantic differentials, Likert scales to allow data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-Test Questions to Get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there will be usabil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ug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 ambiguity, avoid bias, add missing 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correlated questions to test reli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Easy Coding an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using paper, all answers line up for easy sc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presentative/Stratified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return rates according to strata; guard against b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1573-0689-4417-83C6-FFC69113BEF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312B36-46E5-4729-A7FA-4976B4D1007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 :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Question Type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rstone Scale (min .. ma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te on a scale of 1 (worst) to 10 (be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rt Scale (left, center, right, modifi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base – bad – no opinion – good – very g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ongly disagree – disagree – neutral – agree – strongly ag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ntic Differential (-ive, +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using .. cl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less .. use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Choice (A, B, C, D, NOTA, AOTA, 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(with range) or Perce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hours per day do you use compute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Answer / Fre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the five best/worst feature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6DFF-BEB9-4815-884C-4DBA623C778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AB052-02DC-4BC9-921A-A147A126B8B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5] Questionnaires :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nalysis of Questionnaire Data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 the Analysis Form to the Questionn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ulate Ra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demographics as covari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averages, but use histograms to show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te Textual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ight Problem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62120" y="4038480"/>
          <a:ext cx="6858000" cy="2184480"/>
        </p:xfrm>
        <a:graphic>
          <a:graphicData uri="http://schemas.openxmlformats.org/drawingml/2006/table">
            <a:tbl>
              <a:tblPr/>
              <a:tblGrid>
                <a:gridCol w="3276360"/>
                <a:gridCol w="914400"/>
                <a:gridCol w="990720"/>
                <a:gridCol w="838080"/>
                <a:gridCol w="838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 Reaction to the Softw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rible .. wonderf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.. eas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ustrating .. satisfy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dequate power .. adequate pow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ll .. simula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id .. flex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8640-4C34-418F-87F6-A9F78ECFB67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B97224-F929-4AA3-9F69-F20D9F696DB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[7] The Usability Report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 of the Usability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(s) Te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stions Answ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and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sks Not Comple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ggested Reme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red User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ruitment Process (screen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en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ruited User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FC72-2391-4BF3-9AD6-369E88F750A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1A322-7F44-4932-8A07-C1FEBC200E7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[7] The Usability Report (cont’d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ructions to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pment and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materials (task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rded measures (videos, logs, questionnai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stionnaire (post-test surve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ational data (logs in appendi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stionnaire data (ratin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stionnaire positive/negative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s from debrief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02CF-06F4-4D56-B38D-70BA5163EFF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90388-D0C8-472C-8218-723AA439268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1] Introduction :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Goals for System Development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System Usability and U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 user satisfaction and produ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sufficiently low usability, there is no produ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d usability will improve produ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System Before Costly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 should apply to proto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To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 should minimize work by evalu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Little Training by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ers, not just specialists, should be able to evalu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roblem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perhaps suggest possible solutions (maybe for next rele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3E00-1EB7-439F-96EF-5FF9256D075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B564AA-2B27-454A-B733-E024DBF065C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[8] Summary and Conclusion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 for Usability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pec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ation with Video (later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stionn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Instrumentation (later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Evalua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Groups [sullivan9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ual Analysis [whiteside88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 Analysis [card83, gray9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d Experiments [karat88, landauer88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 Verbal Protocol Analysis [prasse9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9BC3-4DA3-4232-9BE4-BB20C172F2E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5EB8BC-5BB1-468B-B735-6A386430902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8] Summary and Conclusions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Why Everyone Should Evaluat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is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is more art than 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Evaluation is Desi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rly detection = lower repair 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, Designs WILL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to know usability before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and Useful Methods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 little training and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out and evaluate, no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FEC6-FB1D-44BB-B57B-88AAF033577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74DDB-E50D-41DD-93A5-C20B7EE5B0E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1] Introduction :</a:t>
            </a:r>
            <a:br>
              <a:rPr sz="24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Motivation for Evalua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Inadequate Intuition About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 design is a skilled 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Must Be Able to Measure Goo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 we do not know if we are doing a good j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Bad at 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what users want/need, of how they will re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Under/Overestimate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ir skills, their limi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NOT Ordinary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hard for us to imagine their con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Build Too Many Unevalu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don't know what are the parts with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ry Perl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A23C-6409-459C-B9C6-725B917B4AB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1BA80-CDE9-4F86-9F7A-94F26DC4F37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2T02:20:45Z</dcterms:created>
  <dc:creator>Caroline Palmer</dc:creator>
  <dc:description/>
  <dc:language>en-US</dc:language>
  <cp:lastModifiedBy>citrixuser</cp:lastModifiedBy>
  <dcterms:modified xsi:type="dcterms:W3CDTF">2007-01-30T19:31:51Z</dcterms:modified>
  <cp:revision>72</cp:revision>
  <dc:subject/>
  <dc:title>Practical Usability Evaluation</dc:title>
</cp:coreProperties>
</file>