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1E2A-8259-47D5-8E27-FCA98911D3B3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F9D2-D4A8-4D4D-9AF3-A804C09B0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edium project, benefit/cost max at 4, good to 16 [nielsen93b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time? try it yourself and double it, or triple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: start from scratch or from previous work that has been sa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 tasks - use different parts of a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: start from scratch or from previous work that has been sa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 tasks - use different parts of a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schedule during a fire al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deo setup covered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schedule during a fire al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deo setup covered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schedule during a fire al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deo setup covered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thical Acceptability of the Resear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ight need to weigh the scientific and human valu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isk to the Su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is should be a primary ethical conc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thical Treatment of Subjects by Ot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searcher retains responsibility for ensuring ethical pract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irness and Freedom from Exploi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searcher must clarify and honor obligations/responsi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bligation for Obtaining Informed Con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bjects allowed to make an informed decision to particip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eedom from Coercion to Particip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bjects (students, employees) must have latitude to dec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tection from Discomfort, Harm, &amp; Dan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bjects protected from/warned about discomfort/stress [schrier92]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xplaining the Nature of the Resear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bjects should be debriefed, to the extent possi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.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moving Undesirable Consequen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searchers responsible detect/remove even long-term eff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ticipant Anonymity, Data Confidential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searchers should explain that data are 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tails later under specific metho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based on your own observ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, Did you know about X?  Why didn't you use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investment compared to the cost of recruiting and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-10 per hour or a small gift for accessible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-50 for many classes of users for commercial 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based on your own observ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, Did you know about X?  Why didn't you use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investment compared to the cost of recruiting and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 methods as an evaluation 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s -&gt; heu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elines -&gt; checkl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in writing the report -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ing/Interpreting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cuomo9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is always interpreting feedback with expec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Repeats Comm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formed wrong intention because of poor stat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Selects Wrong Com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does not know current state (mode e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mor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Hits Wrong Key / Selects Wrong 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coordination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rt/send next to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ach Aspect of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, window format, message format, respons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window border format, prompt format, response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ate until satis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t evaluations by severity and impor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violated check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uidelines on “Window Design” [perlman89, smith86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ated for Importance and Con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oth are subjective ra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rted to Highlight Severe Probl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creasing importanc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creasing conformance (and numb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he system conforms to the remaining 33 guideli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ing Something to Evalu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lecture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erence proceedings and/or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device or service (e.g., phone service in your hotel ro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hone, palm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ing Evaluation Cri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, principles, checklist, your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each of the cri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it in groups, discuss over lu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 of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/ differing observ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find many problems, but not 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deo tapes can be sold for prof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inserting a disk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ill moan, they will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sic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umas93, wright9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a Series of T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wise, the user may not try all parts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s Think Out Loud (in Tea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pt with non-evaluative questions/sugg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users to explain what they are doing and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work makes thinking out loud more natu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rs Should Avoid Inter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rs will not be present with each copy of the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most observer should sit silently in back, or leave al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ably Code Events in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cription may be useful, but expensive &amp; often not neededcoding of events should be done by SEVERAL RATERS and cor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if the events are complex or subtle (confu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: PC 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rately Tabul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nts (positive/negative), questions, error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ional quality is usually not needed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deo Se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OF VIDEO SETUP: add intercom somew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le camera with  trip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te control to avoid moving camera + fre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power (avoid batteries, use multi-plug exten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(writable) tape installed, optional rew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/time set correctly and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t focus with extra b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nk screens will drive most auto-focus system cra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framing with monitor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iewf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panning and zoo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ch out for gl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icker/roll is annoying, but accep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top marketing from trying to use tapes as uccess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deoSynch on the Mac, or use video to synch to 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sound with headph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amera's microphone for “wide angle” to hear all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ess ambient noise is too mu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-view mirror to record 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the user's face (oo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cure local icons without lab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rgon - conjunctive normal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viewed with browse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s for langu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cure synt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standard link colors hide visited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large help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 steps - error screen with no way out but 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papers by Shneide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web resources on section 508 access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op authors, publishers in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xerox p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lean qu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sk all! -- only what is important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ci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558E-669D-4A86-8097-B7D78707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2624-797A-40DB-B60F-0D1C7164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0148-604D-4FF8-B450-1842E787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BBF2-7989-4D84-8AE0-2FC68987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7B01-FC7B-4673-802A-F1FA614D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85BB-9012-4054-B86B-C3C97EB2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F1C4-BAD6-45FD-A955-BECF1AAC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5096-AC7D-4D26-8945-6E19E7BC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09C6-CF5F-4B74-984A-E9EC4827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5F6A-F6B6-4517-B4FE-215737DB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CC39-925D-480A-8D84-27642C7F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ADE8-6D5E-4809-8448-EDCDE13B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588C-CC4F-43B0-8C2D-9DB3772C52FD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9BAE-8BD1-47D6-90F9-8CE374CBC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ractical Usability Evalua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Perl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LC Online Computer Library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1] Introduction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ost-Benefit of Usability Testing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 Evaluation is Cost-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bias94, karat90, mantei88, mayhew90, nielsen93b, nielsen94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bility is Major SW Development Cost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-60% of code (then there is training and the Help Des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Detection of Problems 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s found in later stages cost more to f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bility Can Increase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ter reviews, more satisfied/productiv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bility Can Reduce Cost of New Rel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 code/documentation 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Shows Tangible Dollar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:1 for small project, 100:1 for la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3303-55ED-4275-A186-3B2D8F8AF04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492CC-BD67-49A5-A0AA-F640BC3962B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1] Introduction : Prototyping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Evaluating Before Implementa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totype is a Mock-Up of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oratory, evolutionary, throwaway [virzi89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might be added in successive versions (iterative refin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VOLUTIONARY 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-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icient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HROWAWAY 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DEB5-E5ED-4875-89FF-F2D87172874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8AC66-CB43-4B57-A785-0A0984804CE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1] Introduction : Prototyping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Goals of Prototyping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echnical Fea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risky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New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rify/communicate req.’s, experimental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XPLORATORY 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types of front ends are often used as a form of 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key word here i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Investment Before Product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 effort, time, cost (too often, becomes produ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71B8-94AA-45B5-A213-7BFF8BF8B1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257FB-31B6-425F-840E-96DC5448439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1] Introduction : Prototyping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rototype Design Tool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cil and Paper / Draw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information without any implementation [muller9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ination / Theater (Wizard of O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ed functionality [gould8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/Prototype Devel.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Hyper/SuperCard, Director; Visual Basic, Delphi, Tc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GL, Expert System Sh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thing that helps evaluation come ear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4EEB-3863-4964-BB40-F3FC591372A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D9ECF-D9E8-4EB4-AE78-237F43A73CE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[2] User Testing Step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fore User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 preference focus groups, surveys; Expert insp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ing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ch users to test, and how man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chmark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the users will do; different users imply different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fore the User Ar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vanced set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User Ar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paring the 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ose methods that suit your needs / constr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the User is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nal bookkee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framework for interpreting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2760" y="556272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ssom 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034C-B15C-4304-85DB-9B2ECF64DA6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1135E-9FEB-4B50-90FC-3E3BE367EB6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Sampling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1a. Sampling : Which Users?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he System Being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ystems may be designed for experts, others for all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v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d/expected knowledge, experience, education,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ified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classes are proportionally samp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sed Samples: Designers/Program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lkthroughs useful pretest, but potential limits on gener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can't put themselves in the role of a naive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, Realistic Users Must b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beta users, (temp.) employees, possibly students/fri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14280" y="1413000"/>
            <a:ext cx="20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senbaum 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3618-A91E-4474-A510-67330C44A80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5E4FD-070B-42AA-950C-8D362FF0C15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Sampling : Screener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1a. Sampling : Screening User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a Scre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usable by screening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wchart format for telephone 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to read, when to terminate (early, if possi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relevant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desired percentages (e.g., Mac vs. Windows., M/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alize all judgments (e.g., user level with appl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they name company, product,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13E7-5240-41ED-BEDC-0F044E0C905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EB08E-9C73-4051-84B9-93B98AD35E5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Sampling : Screener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1a. Sampling : Screening User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1120" y="1598760"/>
          <a:ext cx="7751520" cy="438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598760"/>
                    <a:ext cx="7751520" cy="43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623C-9206-4D56-8033-0F56B3C8D45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3D4A9-EB8A-43FA-BE28-666E509A19B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Sampling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1b. Sampling : How Many Users?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't Test ALL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 expensive, too much time,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Generalize from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that our samples are representative and un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on Sense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based on larger samples are more stable/belie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0-1-MANY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 evaluation, 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me evaluation, 2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me d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ost Evaluations, 3 Users is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me consistency, for modest effort; most method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ugg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w of Diminishing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 the number of users for a quantitative dif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6CB8-B6C5-4FFB-BC84-9AFF38CD9FD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49D6F0-A25E-4D21-8981-7E452A2A1D9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Task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2. Benchmark Task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Tasks that Exercise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v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't test all possible uses of mos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stic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ivate users and provide valid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All System Functions (Content Valid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 users to tour all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Reasonable Amount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s on type of system, users (30-60 mins...several da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ed on Instruction She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them, users may wander or miss p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Clear 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/evaluator should know when the task is d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33DF-C026-45F2-84A3-B045FC8CCD0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C8F2E-6ECB-47C3-AE67-56D7F079C0C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1120" y="2027160"/>
          <a:ext cx="7864560" cy="396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027160"/>
                    <a:ext cx="786456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3681-7EF9-4C5F-B1C6-B8B7ED6EBE8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D40DA-2611-4AD4-A558-8B4E3FB0335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Tasks : Type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2. Benchmark Task Typ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Simple to Complex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up and Exit, getting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mplishing Simple Tasks - fe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s of Simple Tasks (Compl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itions of Simple Tasks (Comp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s of Compositions of Simpl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 test th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changes the tasks, sometimes changes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ystems Must be Tested in Pi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parts of a system are ready at different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 groups of tasks for different p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learned in one part may be applied to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8CD2-E9A9-47B5-8E91-DA3DA612A0C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7E142-1566-437B-8AD9-054718F9C2F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Tasks : Example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2. Task Construc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bliographic Retrieva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search, Boolean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/wildcard matches, upper/lower case, relations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/OR/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fields,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ing/decreasing within each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 fields, user-defined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 formatting of selected fields, formatting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, e-mail, save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0320" y="4421160"/>
          <a:ext cx="7680240" cy="156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320" y="4421160"/>
                    <a:ext cx="768024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9C39-74FD-42FE-B8D6-FC8D02552E0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49627-AF32-44E1-8128-FF95D5C9ECC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Tasks : Example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2. Task Construc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ll papers by Shneider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 these papers by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 only the titles of these pap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Tasks within Part of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ll books and papers by Foley or Van D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ll papers cited by Perlman and Niel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 books by date and by author within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 Tasks across Parts of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ll books by Carroll and sort by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date and title of papers by Hend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-Complex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6ABC-0BF0-4576-AAE6-ECCDB721F48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2DE3A-5C4B-41A3-99A0-9A392C18FD1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Tasks : Exercise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2. Task Construction Exercis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I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about the field for all types of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able database of bibliographic rec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links on a variety of top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Task for Groups of F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ise a set of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out knowing what the system looks li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 how log each should t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this application, tasks should take 1-5 minutes e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Simple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with Complex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10-15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can define tasks without knowledge of the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CF33-5DD3-4F02-A4EB-305F1F20E82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9D520-442D-42B7-B7A9-76B2099F651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Preparation : Supplie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3. Before the User Arriv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ies to Have on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/ Task 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nair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nt / Non-disclosure Form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nk Video Tap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Storage (e.g., floppy disk(s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Paper and Pen (or notebook compu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checklist to ensure you get the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E8C1-E637-4FE6-A3FB-5E51078A57E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19A23-3382-46A5-8450-D09ED5051CC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Preparation : Setup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3. Before the User Arriv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m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Disruptions/Dist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windows, do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e ringer/speaker 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ning sign outside door (Please Do not Disturb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inds closed to limit g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Computer and Check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sure all peripherals are installed and 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up, check folder/directory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Work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will need space for task descriptions, possibl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ent screen to control glare, NumLock 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F545-C4AA-49BB-935E-7414FDE18FD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F7C52-F5F1-4E74-8165-1F15A94BDB0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Usability Test in Progress</a:t>
            </a:r>
            <a:br>
              <a:rPr sz="4800"/>
            </a:b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Date:   /   /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PLEAS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DO NO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DISTUR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5F2D-258F-456D-8668-05F6CF7B509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CF345-3897-45F8-878E-EDB2AAE6D3C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Showtime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4. When the User Arriv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nt and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PA92, moroney94, mackay9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the User for Particip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users will not show up, especially during holiday sea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 of Purpose of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want to evaluate the system, not the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he User Comfor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them collaborators, call the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rticip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nt Form Sig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ains what is to be exp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Disclosure Form Sig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ain the sensitivity of trade secr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ease of rights to ownership of ideas during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E2B0-DD7E-4A62-91D1-4136600DF86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CB0F5-3791-4FEE-860E-966F12CE31F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Showtime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4. When the User Arriv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raining, if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sure user knows/has pre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want to record these in the questionn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rials, if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1401-ADCC-4BF0-B769-EE32EC7C63E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7E434-D571-4CDD-96F4-87D4D6F9552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Showtime : Ethic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4. Ethics of Research with Human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A 1992 Ethical Principle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ical Acceptability of the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to the Su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ical Treatment of Subjects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rness and Freedom from Explo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ion for Obtaining Informed Con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dom from Coercion to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s (students, employees) must have latitude to dec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ion from Discomfort, Harm, &amp; Da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laining the Nature of the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s should be debriefed, to the extent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ing Undesirable Con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cipant Anonymity, Data Confidenti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archers should explain that data are confi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6596-5D1B-4AFE-9586-FB3848C74DD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D7E2A-4B0D-405F-A3DF-0C9499800A8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[1] Introduction to General Concept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of Usability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is it related to other types of evalu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 evaluate usabili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steps should be follow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methods should be us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871A-F41F-4FBC-8AE7-89AEEB5C25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ED7F7-9E8E-4CC6-B9D7-3FE55D76AFB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5. Data Collec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Maintain Natur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ethods Cover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Notes (even if reco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Avoid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ed L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9940-D62D-4D73-8ACB-B2E33BDB130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C2299-BB9F-48E8-87CF-464C1F10F35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Debriefing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6. After the User is Don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nister Question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You Ask Potentially Biasing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tain equivalent conditions for all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riefing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if they could not do anything, even if they were !@/?#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that You are Evaluating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r may have had problems and may feel bad/ang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User for General I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follow up with (potentially biasing)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he Data Will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ind problem areas in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mburse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8BF1-6BC1-4705-8A27-50BD5007314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6F3FA-D847-47F8-8B65-99162E4F470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Saving Data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6. After the User is Don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ing/Sav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 of a detailed procedural check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Disk/File with User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-prot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Video Tape with User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-prot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Questionnaire with User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user ID to con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Your Notes with User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ve nothing to ch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User ID to Conse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ep confid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0E16-E2FF-40BB-A15D-D5BB7BD35BA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2BD51-1C65-44AA-B138-406E2379CD5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7. Interpreting Data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behavior (program use and comments) is attributable to different stages of system use and imply different problems and remed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blem at an earlier stage or low-level may obscure problems at later or higher-level st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s for Interpreting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ey &amp; Van Dam's Leveled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n's Stages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Guideline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BD38-6463-409E-A8DF-296DC6FA705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DBB35-8B09-47AB-ADA2-9A6200B2E22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Interpreting Data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Foley &amp; Van Dam’s Level Model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ual : Mental Models, Metaph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usual to get comments at this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s at this level may require a complete re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tic : Meaning of System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omain specific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s suggest changing functions to better meet user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ctic : System Structure, Con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and feel issues begin to apply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s are fixed in the use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al : Input / Outpu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e-tuning of design (but do not start at this lev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problems at this level are easy to f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D9CA-8BF9-48D3-AB47-07046D0206D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115C9-7964-4712-A5B0-9C443D6843F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Interpreting Data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Norman’s Stages of Ac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ulf of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ffordan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rom intention to achieve goals to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ing In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are the possible inten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ng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are the possible actions to accomplish the inten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ng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the needed speed and accurac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ulf of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bout progress toward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iving State of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has the state of the world chang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ing State of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does this change of state mea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ng Change of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does this affect approaching goa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8D73-30F3-4B95-A13D-E9D1E495C57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749C9-CB5C-4FC9-BA60-4AB0572A652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ractical Evaluation Method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pec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systems without user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s (developers, designers) provide structured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de evaluators through criteria before user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a substitute for user testing (but can pick up some problems earlier and at lower c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: Checklists, Heuristic Evaluation, Cognitive Walkthroug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al Skills and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ors watch users use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ther both objective and subjectiv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s give opinions in structured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: User background questionnaires, Opinion questionn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Instr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watches the users use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7200-DF9A-43E8-8A39-A18206C1A66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455FF5-96F8-4BA0-A7E4-64CA3835C2F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thods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uggestions for Adopting Method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use one method immediately, and over time add other methods to your reperto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thods complement each other, and none requires much training, effort, or c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A64E-8F96-4FE7-85F3-4F86607953A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47506-3C3E-4425-9F24-1328D655A9F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thods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hoosing an Evaluation Metho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ice depends on several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billingsley93, mack93, nielsen94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rly ... near 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ors, developers, time constraints, funds, 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itude of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they listen and make chang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in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, number, seve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es of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 (time, errors) vs. p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A63E-14F4-4DE8-B121-049EC661337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0EEE9-7A2D-49BE-9A51-DE549317AF2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thods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hoosing an Evaluation Metho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2560" y="1598760"/>
          <a:ext cx="7748640" cy="456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598760"/>
                    <a:ext cx="7748640" cy="45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DA8-3A4A-4CDE-A428-F55264A86C23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EFB244-C18F-4FE0-B4EA-6637F0B800D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1] Introduction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ontext of Usability Evalua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bility before U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people want to use it? can people learn to use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it help people do something useful, mo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tl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ve vs. Summative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to improve system usabilit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u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to estimate the overall usabilit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Evaluators vs. User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inspection methods to provide expert opinion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thout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testing can not be replaced by inspec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ing vs.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irical evaluation (testing) with users, with desig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l analysis (verification) with designers, wit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3332-D8B7-4988-8660-DDF34898AA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844A3-4DEE-44AF-8E7B-ADA218D00D4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thods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nspection Method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bility inspection is the generic name for a set of methods based on hav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pect or examine usability-related aspects of a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bility inspectors can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bility speciali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ut they can also be software development consultants with special expertise, end us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t or t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other types of professio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fining characteristic of usability inspection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iance on judg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source of evaluative feedback on specific elements of a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k &amp; Nielsen, 1994, p.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32FB-C5EE-42B8-BC2A-9008B76B1E0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79A7C-2D65-4B1F-B1B0-A91CD51B673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nspection Method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uristic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e Heu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ng Heu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Walkthroug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rcise - Inspection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nielsen94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1CB5-0112-4555-965F-D472C89479E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720F6-8536-4CEA-8DC0-C70E857EF39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Evaluation Checklist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guidelines, standards, etc. as evaluation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lists can be customized to specific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serious violations of important check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tedious even with onlin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tuning a bad design doesn’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ith 1984 (for MITRE 1985 guide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-STD-14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3C WAI Accessibility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9C25-84BA-490B-9DC2-0596A98961C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7C35B8-3765-42F7-AC6E-B6AB4B79634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Evaluation Checklist Metho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Relevant Checkpoints (e.g., Guide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 of contents, index, online keyword 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Priority Based on Application Req'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evance = Y/N; importance =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Report and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cus design efforts on high priority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ocument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e to source `checkpoint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ion of System Designed Using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System Design with Quality Ra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ormance = Y/N; success = 1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Report &amp;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e violations of high-priority check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4534-4AC6-490D-85CA-8C10D898C2E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B455D-41BA-458C-9AEC-7D7F17F7C80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Example Checklist for/by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NaviText SAM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100" spc="-1" strike="noStrike">
                <a:solidFill>
                  <a:srgbClr val="009900"/>
                </a:solidFill>
                <a:latin typeface="Courier New"/>
              </a:rPr>
              <a:t>IMPORTANCE RATING (0=ignore, 5=critical) </a:t>
            </a:r>
            <a:r>
              <a:rPr b="1" lang="en-US" sz="1100" spc="-1" strike="noStrike">
                <a:solidFill>
                  <a:srgbClr val="009900"/>
                </a:solidFill>
                <a:latin typeface="Courier New"/>
              </a:rPr>
              <a:t>(decreasing - secndary)</a:t>
            </a:r>
            <a:r>
              <a:rPr b="0" lang="en-US" sz="1100" spc="-1" strike="noStrike">
                <a:solidFill>
                  <a:srgbClr val="009900"/>
                </a:solidFill>
                <a:latin typeface="Courier New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100" spc="-1" strike="noStrike">
                <a:solidFill>
                  <a:srgbClr val="009900"/>
                </a:solidFill>
                <a:latin typeface="Wingdings"/>
                <a:ea typeface="Wingdings"/>
              </a:rPr>
              <a:t>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3333cc"/>
                </a:solidFill>
                <a:latin typeface="Courier New"/>
              </a:rPr>
              <a:t>CONFORMANCE RATING (0=missing, 5=full) </a:t>
            </a:r>
            <a:r>
              <a:rPr b="1" lang="en-US" sz="1100" spc="-1" strike="noStrike">
                <a:solidFill>
                  <a:srgbClr val="3333cc"/>
                </a:solidFill>
                <a:latin typeface="Courier New"/>
              </a:rPr>
              <a:t>(increasing - primary)</a:t>
            </a:r>
            <a:r>
              <a:rPr b="0" lang="en-US" sz="1100" spc="-1" strike="noStrike">
                <a:solidFill>
                  <a:srgbClr val="3333cc"/>
                </a:solidFill>
                <a:latin typeface="Courier New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NUMBER   </a:t>
            </a:r>
            <a:r>
              <a:rPr b="0" lang="en-US" sz="1100" spc="-1" strike="noStrike">
                <a:solidFill>
                  <a:srgbClr val="009900"/>
                </a:solidFill>
                <a:latin typeface="Wingdings"/>
                <a:ea typeface="Wingdings"/>
              </a:rPr>
              <a:t>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3333cc"/>
                </a:solidFill>
                <a:latin typeface="Wingdings"/>
                <a:ea typeface="Wingdings"/>
              </a:rPr>
              <a:t>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GUIDELINE TITLE</a:t>
            </a:r>
            <a:r>
              <a:rPr b="0" lang="en-US" sz="1100" spc="-1" strike="noStrike">
                <a:solidFill>
                  <a:srgbClr val="ff0000"/>
                </a:solidFill>
                <a:latin typeface="Courier New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.7.2/11 </a:t>
            </a:r>
            <a:r>
              <a:rPr b="0" lang="en-US" sz="1100" spc="-1" strike="noStrike">
                <a:solidFill>
                  <a:srgbClr val="009900"/>
                </a:solidFill>
                <a:latin typeface="Courier New"/>
              </a:rPr>
              <a:t>0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3333cc"/>
                </a:solidFill>
                <a:latin typeface="Courier New"/>
              </a:rPr>
              <a:t>0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Labeling Scrolling Functions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.3/11   </a:t>
            </a:r>
            <a:r>
              <a:rPr b="0" lang="en-US" sz="1100" spc="-1" strike="noStrike">
                <a:solidFill>
                  <a:srgbClr val="009900"/>
                </a:solidFill>
                <a:latin typeface="Courier New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3333cc"/>
                </a:solidFill>
                <a:latin typeface="Courier New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Specifying Case in Search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.7.2/9  </a:t>
            </a:r>
            <a:r>
              <a:rPr b="0" lang="en-US" sz="1100" spc="-1" strike="noStrike">
                <a:solidFill>
                  <a:srgbClr val="009900"/>
                </a:solidFill>
                <a:latin typeface="Courier New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3333cc"/>
                </a:solidFill>
                <a:latin typeface="Courier New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Functional Labeling for Display Framing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5.2/5    </a:t>
            </a:r>
            <a:r>
              <a:rPr b="0" lang="en-US" sz="1100" spc="-1" strike="noStrike">
                <a:solidFill>
                  <a:srgbClr val="009900"/>
                </a:solidFill>
                <a:latin typeface="Courier New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3333cc"/>
                </a:solidFill>
                <a:latin typeface="Courier New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Aids for Directory Search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.7.5/8  </a:t>
            </a:r>
            <a:r>
              <a:rPr b="0" lang="en-US" sz="1100" spc="-1" strike="noStrike">
                <a:solidFill>
                  <a:srgbClr val="009900"/>
                </a:solidFill>
                <a:latin typeface="Courier New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3333cc"/>
                </a:solidFill>
                <a:latin typeface="Courier New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Easy Shifting Among Windows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.7.5/5  </a:t>
            </a:r>
            <a:r>
              <a:rPr b="0" lang="en-US" sz="1100" spc="-1" strike="noStrike">
                <a:solidFill>
                  <a:srgbClr val="009900"/>
                </a:solidFill>
                <a:latin typeface="Courier New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3333cc"/>
                </a:solidFill>
                <a:latin typeface="Courier New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Easy Suppression of Window Overlays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.0/8    </a:t>
            </a:r>
            <a:r>
              <a:rPr b="0" lang="en-US" sz="1100" spc="-1" strike="noStrike">
                <a:solidFill>
                  <a:srgbClr val="009900"/>
                </a:solidFill>
                <a:latin typeface="Courier New"/>
              </a:rPr>
              <a:t>5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3333cc"/>
                </a:solidFill>
                <a:latin typeface="Courier New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User Control of Window Display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.5/9    </a:t>
            </a:r>
            <a:r>
              <a:rPr b="0" lang="en-US" sz="1100" spc="-1" strike="noStrike">
                <a:solidFill>
                  <a:srgbClr val="009900"/>
                </a:solidFill>
                <a:latin typeface="Courier New"/>
              </a:rPr>
              <a:t>5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3333cc"/>
                </a:solidFill>
                <a:latin typeface="Courier New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Adequate Window Size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.7.5/7  </a:t>
            </a:r>
            <a:r>
              <a:rPr b="0" lang="en-US" sz="1100" spc="-1" strike="noStrike">
                <a:solidFill>
                  <a:srgbClr val="009900"/>
                </a:solidFill>
                <a:latin typeface="Courier New"/>
              </a:rPr>
              <a:t>5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3333cc"/>
                </a:solidFill>
                <a:latin typeface="Courier New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Indicate Active Window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.5/11   </a:t>
            </a:r>
            <a:r>
              <a:rPr b="0" lang="en-US" sz="1100" spc="-1" strike="noStrike">
                <a:solidFill>
                  <a:srgbClr val="009900"/>
                </a:solidFill>
                <a:latin typeface="Courier New"/>
              </a:rPr>
              <a:t>5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3333cc"/>
                </a:solidFill>
                <a:latin typeface="Courier New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Preventing Data Loss at LOG-OFF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.3/33   </a:t>
            </a:r>
            <a:r>
              <a:rPr b="0" lang="en-US" sz="1100" spc="-1" strike="noStrike">
                <a:solidFill>
                  <a:srgbClr val="009900"/>
                </a:solidFill>
                <a:latin typeface="Courier New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3333cc"/>
                </a:solidFill>
                <a:latin typeface="Courier New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Reversible Actions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.5/8    </a:t>
            </a:r>
            <a:r>
              <a:rPr b="0" lang="en-US" sz="1100" spc="-1" strike="noStrike">
                <a:solidFill>
                  <a:srgbClr val="009900"/>
                </a:solidFill>
                <a:latin typeface="Courier New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3333cc"/>
                </a:solidFill>
                <a:latin typeface="Courier New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User-Defined Data Windows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.7.5/3  </a:t>
            </a:r>
            <a:r>
              <a:rPr b="0" lang="en-US" sz="1100" spc="-1" strike="noStrike">
                <a:solidFill>
                  <a:srgbClr val="009900"/>
                </a:solidFill>
                <a:latin typeface="Courier New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3333cc"/>
                </a:solidFill>
                <a:latin typeface="Courier New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User-Specified Windows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.5/9    </a:t>
            </a:r>
            <a:r>
              <a:rPr b="0" lang="en-US" sz="1100" spc="-1" strike="noStrike">
                <a:solidFill>
                  <a:srgbClr val="009900"/>
                </a:solidFill>
                <a:latin typeface="Courier New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3333cc"/>
                </a:solidFill>
                <a:latin typeface="Courier New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Distinctive Confirm Action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.5/10   </a:t>
            </a:r>
            <a:r>
              <a:rPr b="0" lang="en-US" sz="1100" spc="-1" strike="noStrike">
                <a:solidFill>
                  <a:srgbClr val="009900"/>
                </a:solidFill>
                <a:latin typeface="Courier New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3333cc"/>
                </a:solidFill>
                <a:latin typeface="Courier New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UNDO to Reverse Control Actions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6.0/19   </a:t>
            </a:r>
            <a:r>
              <a:rPr b="0" lang="en-US" sz="1100" spc="-1" strike="noStrike">
                <a:solidFill>
                  <a:srgbClr val="009900"/>
                </a:solidFill>
                <a:latin typeface="Courier New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3333cc"/>
                </a:solidFill>
                <a:latin typeface="Courier New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Distinctive Confirm Action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6.0/21   </a:t>
            </a:r>
            <a:r>
              <a:rPr b="0" lang="en-US" sz="1100" spc="-1" strike="noStrike">
                <a:solidFill>
                  <a:srgbClr val="009900"/>
                </a:solidFill>
                <a:latin typeface="Courier New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3333cc"/>
                </a:solidFill>
                <a:latin typeface="Courier New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Reversible Control Actions (UNDO)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.0/9    </a:t>
            </a:r>
            <a:r>
              <a:rPr b="0" lang="en-US" sz="1100" spc="-1" strike="noStrike">
                <a:solidFill>
                  <a:srgbClr val="009900"/>
                </a:solidFill>
                <a:latin typeface="Courier New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3333cc"/>
                </a:solidFill>
                <a:latin typeface="Courier New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User Changes to Displayed Data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2.5/11   </a:t>
            </a:r>
            <a:r>
              <a:rPr b="0" lang="en-US" sz="1100" spc="-1" strike="noStrike">
                <a:solidFill>
                  <a:srgbClr val="009900"/>
                </a:solidFill>
                <a:latin typeface="Courier New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3333cc"/>
                </a:solidFill>
                <a:latin typeface="Courier New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Command Entry, Prompts, Messages at Bottom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.1.3/8  </a:t>
            </a:r>
            <a:r>
              <a:rPr b="0" lang="en-US" sz="1100" spc="-1" strike="noStrike">
                <a:solidFill>
                  <a:srgbClr val="009900"/>
                </a:solidFill>
                <a:latin typeface="Courier New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3333cc"/>
                </a:solidFill>
                <a:latin typeface="Courier New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Standard Area for Code Entry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3.1.5/2  </a:t>
            </a:r>
            <a:r>
              <a:rPr b="0" lang="en-US" sz="1100" spc="-1" strike="noStrike">
                <a:solidFill>
                  <a:srgbClr val="009900"/>
                </a:solidFill>
                <a:latin typeface="Courier New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3333cc"/>
                </a:solidFill>
                <a:latin typeface="Courier New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Standard Display Area for Command Entry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4.4/8    </a:t>
            </a:r>
            <a:r>
              <a:rPr b="0" lang="en-US" sz="1100" spc="-1" strike="noStrike">
                <a:solidFill>
                  <a:srgbClr val="009900"/>
                </a:solidFill>
                <a:latin typeface="Courier New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3333cc"/>
                </a:solidFill>
                <a:latin typeface="Courier New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Standard Display Location for Prompting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1.1/16   </a:t>
            </a:r>
            <a:r>
              <a:rPr b="0" lang="en-US" sz="1100" spc="-1" strike="noStrike">
                <a:solidFill>
                  <a:srgbClr val="009900"/>
                </a:solidFill>
                <a:latin typeface="Courier New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3333cc"/>
                </a:solidFill>
                <a:latin typeface="Courier New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Minimal Use of Multiple Curso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CEB3-6F1D-4345-83B4-4559D5EB184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24566-6BB0-4039-AB7C-8081D184898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Heuristic Evalua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uri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s 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pprox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/evalua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euris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inci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Discount Usability Engineering”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nielsen89, nielsen90, ..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ittl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High-Level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ets of Heu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focus attention on a variety of important princi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439B-B137-40E1-8FF7-BFD3A865BDE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CBD69-0579-49BD-94D2-B0AB764956C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 : Heuristic Evaluation 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Nielsen 1993 Heuristic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and Natural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 the User's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User Memory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Clearly Marked Ex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hortc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Erro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and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EBF5-136B-40D9-BCBC-6741E654322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E1D68-E230-40B3-A15B-E07A2D08C82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 : Heuristic Evaluation 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Norman 1990 Principl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Both Knowledge in the World and the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p the user form mental models that aid system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 the Structure of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ensate for human memory limi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hings Visible: Bridge the Action Gul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feedback about what can be done and what is happ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Mappings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for response compat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 the Power of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it impossible to do the wrong 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errors will be made and design for re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ll Else Fails, Standard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here to existing standards unless there is a better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765-6518-464B-85BE-7CE29EED0DE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FA125-6F6C-4E0E-B508-A23379E5027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 : Heuristic Evaluation 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 Merged Set of Heuristic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Lists Over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expected as they address the same top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Has Unique Foc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accident of omission, or by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s can be Merged for Specific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in purpose is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vercome the evaluator's limi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s can be Added to Address Specific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evaluation of unusual application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t Another Set of Heu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ng to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and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3F4D-EE2E-4476-A2DC-1E8378D6A1A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91154-0E69-4561-AFDB-0E4616A66EE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uristic Evaluation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rged 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Learning the System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Help and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for use without 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easy-to-use task-oriented 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dopt the User's View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ak the user's language (avoid jarg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use of existing knowledge (familiar mental mode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Simple and Natural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 extraneous information, steps,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should be in a logical natural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Design for Adv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shortcuts (quick keys, customiz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CD2A-9314-4D00-86CC-2621ECD7ED6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48194-3C92-4EA1-B480-19A239785E5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1] Introduction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User Interface Acceptability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Accep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al Accep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ctical Accep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t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asy to Lea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fficient to 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asy to Rem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ew Err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jectively Plea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at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571500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Nielsen 1993, p.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4117-F6E4-4C51-B20F-5E4B88BD05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6B94C-CAF7-4287-89D6-7C7F1EA1302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uristic Evaluation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rged 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dapting to the User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Provide Maps and a Tr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user a way to preview where to go, what will hap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the user a way to review / return to previous contex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Show the User What is (Not)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affordances to indicate what can be d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Intuitive Mapp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good response compatibility between controls/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Minimize Memory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the need to remember across dialog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multiple views for easy compari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Consistency in the System and t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sure the same term/action has the one mea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re is no better way, conform to a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8188-1CEA-4379-ABDB-28B50EF9A09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EFF4A-7132-4592-A642-DBAE90F27AA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uristic Evaluation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rged 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Feedback and Error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timely feedback about all processes, system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Prevent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it difficult to make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Erro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gnose the problem and suggest a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Clearly Marked Exits and Error 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sure user can get out of an undesirable state eas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users will make errors and need to recover previous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1481-707C-4A7E-B473-FBD727A4325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AC73A-BC4F-49BD-BFC0-D98138FAE5B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 : Heuristic Evaluation 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erforming a Heuristic Evalua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pe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Heu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each heuristic to many parts of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heuristics while completing benchmark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Violations into a Database/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or records problems or observer takes notes on evalu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1F20-B0D8-4EF9-8DFE-7E6C956273E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391D4-4D71-4B50-828F-8A251539E1E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 : Heuristic Evaluation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erforming a Heuristic Evalua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pe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Heu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each heuristic to many parts of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heuristics while completing benchmark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Violations into a Database/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or records problems or observer takes notes on evalu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D03F-0C5D-490A-B2F0-C8182761E88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C0345-8921-4302-B2A8-B635896E38D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uristic Evaluation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erforming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eporting Form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81120" y="1598760"/>
          <a:ext cx="7751520" cy="470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598760"/>
                    <a:ext cx="7751520" cy="47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C16B-E028-44D3-826B-8AF324FE849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A6F55-4910-41FC-BF17-EF0FB3782F6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uristic Evaluation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nalysis Procedur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 problems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ve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ystem, violated heuristic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ate problem descriptions and solutions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eneral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ode what is learned in styleguide to avoid future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up with discussions of problems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ice evaluators find fewer problems, but training hel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93B8-512A-4459-AE4A-3BAF93E0895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3410B6-FA0B-4D14-B384-66986BA5DE5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uristic Evaluation : Analysi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Example Analysi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. Provide Maps and a Tr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tons do not provide status-line help when pressed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using for users to determine previous frame dest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. Show the User What is (Not)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yed out buttons do not provide rollover help (why grayed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logs do not indicate which fields are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. Intuitive Mapp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een icons are horizontal but online help is vertical and different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. Minimize Memory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ons are difficult to interpret, re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has to re-enter complex codes in different dia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. Consistency in the System and t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dialogs have help button, some do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dialogs do not follow conventions for Enter/Can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052B-4872-4A59-8C35-56A84D41A69A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D6E29-3AEC-45B2-ADDC-89ADA62EF9E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ognitive Walkthrough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Software Walkthroug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ases are Walked Through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ers Try to Anticipat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Done Before User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Require Extensiv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s Half the Problems in 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: [lewis9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0FF0-C822-4112-9D21-D66F64559D1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FDAF1-0467-47D9-87F5-F397E571ABB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 : Cognitive Walkthrough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ognitive Walkthrough Procedur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 Task in a Test Su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a detailed description (prototype/specification) of 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Sequence of Actions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the user interface must perform for each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r Tells a Story about User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the user would perform the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ers Comment on Plausibility (Challe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lack of knowledge/information would cause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use heuristics applied in context of doing a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What Knowledge Users would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representation of user knowledge of task / 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roblem Predictions to Make Sug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problem solving in the use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A178-CAFD-479A-B3B7-6078DBB5B4D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8BEEF-F3A6-4724-871C-56CEA102CDC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nspection Methods Exercis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Something to Eval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Evaluation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the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23AA-0930-471D-AAEF-171CA8CB116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A8A31-6AB6-4764-8DBB-3EF3992B2EE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1] Introduction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UI Development Problem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ty of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ices, experts, occasional users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vidual differences can overwhelm other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ty of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r, business, educational, entertainment, 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etypes, CRT, hi-res, voice, VR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uy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ives (concerns about bad review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rs (concerns about cost cen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rs (creative contributions, productiv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91BC-F8E0-428A-AB97-96BD2AE813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6E067-FF7F-4604-91F7-C524B43F1DE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[4] Observation and Video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s and Cons of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 Medium with Detaile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, too much data to analy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to See Users Using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l to most developers; may need to be restr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s Make Compelling Anecd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itical incidents often convince developers immedi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s are a Permanent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reviewed, e.g., to count events and estimat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r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f-conscious users, observers may affect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ases may affect observer/rater interpre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799F-93C3-4F40-9AEE-69E07452F6E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D7C8A4-7632-48F9-AFD9-478C8A0FD3D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4] Observation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Have Developers Observe Real User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Who their User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write systems for themsel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Realistic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have never seen their software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How Users Learn / Make Mis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ually, they will blame the system, not th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f Too Late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time, they will want/welcome earlier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DC60-B540-4CA4-8C14-8B69A3FEEEB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EEC11-7F18-4429-8DA9-4C023EC2D9E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4] Observation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Method for Observation,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Video Protocol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dumas93, wright9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Series of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, the user may not try all parts of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Think Out Loud (in Tea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mpt with non-evaluative questions/sugg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rs Should Avoid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rs will not be present with each copy of the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y Code Events in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cription may be useful, but expensive &amp; often not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ly Tabulat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sk success, comments (positive/negative), questions, errors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bility Lab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wiklund94, Nielsen94b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89D8-B008-484A-A249-34D3BA299E8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07C25-A5B3-45DC-BD23-15D883E598B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4] Observation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etting up for Observa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deo Setup 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le camera with  trip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te control to avoid moving camera + free m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 power (avoid batteries, use multi-plug extens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(writable) tape installed, optional rew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/time set correctly and vi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t focus with extra b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ank screens will drive most auto-focus system cra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 framing with monitor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iewf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 panning and zoo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tch out for g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cker/roll is annoying, but accep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sound with headph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amera's microphone for “wide angle” to hear all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r-view mirror to record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9823-C539-4A3C-BACD-4BDF87CE9A7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CB284-3D32-4295-9CD4-D4D22734E07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4] Observation : Setup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ear-view Mirror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579680" y="1600200"/>
          <a:ext cx="5984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9680" y="1600200"/>
                    <a:ext cx="5984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AFCC-FC32-4B23-84F4-892F18BD0CA9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24072-7056-4BE8-A178-2CECD71FFAE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4] Observation : Setup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Equipment Cost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200400" y="1600200"/>
          <a:ext cx="5186520" cy="177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600200"/>
                    <a:ext cx="518652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762120" y="1600200"/>
          <a:ext cx="4184640" cy="480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600200"/>
                    <a:ext cx="41846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EC0E-186C-4E2F-AA8A-A88F9994E86E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A546B-A65F-48FB-BAAC-C150A867C86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4] Observation : Setup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Video Camera Featur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1600200"/>
          <a:ext cx="7769160" cy="44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776916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mm (2 hour tap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8 format (400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viewfinder (or moni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ro focus for screen 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ing erase heads (com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ot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audio/video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Fi stereo 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less battery + level 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 stabiliz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zz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igita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p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x optical / 24 x digital z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-angle lens fo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9CC3-8F44-4747-A120-01A4D4FB77C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EE268-8991-4795-BB05-32BB928237D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4] Observation : Setup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Monitor and Deck Featur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600200"/>
          <a:ext cx="7769160" cy="44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776916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V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color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inputs in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-Fi stereo 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pe 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HS VCR for making compatible 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ying erase heads for simple ed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inputs in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-Fi stereo 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051E-6965-4FA1-9A35-CDE7AFB21AD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3EADD-7751-4C2E-B900-E1D6A9AD0CD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4] Observation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Observational Do’s and Don’t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0" y="1600200"/>
          <a:ext cx="7769160" cy="44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776916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't Guide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want to see how they naturally use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the User Make Mis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don't let them get too frust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the User T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neutral prompts be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Not Answer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want to observe the unaided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Let Yourself/Developers Get Def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nk of the humor of the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F2C9-8743-402A-B7AC-D41DBC92E9C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3B240-714D-48D7-BE21-24CD14E28A6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4] Observation : Do’s and Don’t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uggested Questions/Prompt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0" y="1600200"/>
          <a:ext cx="7769160" cy="44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776916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these prompts from procedural check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you thinking/trying-to-do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ic prompt to get the user tal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you do in this situation/now/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may bias the user to think in a different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describe the parts of the scr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an get in the way of natural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expect will happ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after user suggests trying some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at what you expected? 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after the user initiates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9580-550F-4380-A2A4-A90816A0A1D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13B98-F17E-4134-A9B2-3410D971708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1] Introduction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terative Development Lifecycl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3" name="lifecycle" descr=""/>
          <p:cNvPicPr/>
          <p:nvPr/>
        </p:nvPicPr>
        <p:blipFill>
          <a:blip r:embed="rId1"/>
          <a:stretch/>
        </p:blipFill>
        <p:spPr>
          <a:xfrm>
            <a:off x="685800" y="1741320"/>
            <a:ext cx="7772400" cy="421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11AC-BE41-437B-9405-1CF1CD486E0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3E11E-1E39-428A-A187-A05F0B65908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4] Observation : Do’s and Don’t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Questions/Prompts to Avoi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0" y="1600200"/>
          <a:ext cx="7769160" cy="44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776916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that's g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bottom of the scr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lp was on the previous scr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id you do t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't do tha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it’s okay to s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’s a bug.  Remember we told you some parts might not work? You’ve discovered something valuable to our develop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110F-AA13-4748-B812-4DC6F0C223C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21CEC-15DF-497A-99D9-16896E7CBE3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4] Observation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nalysis Tasks for the Observer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0" y="1600200"/>
          <a:ext cx="7769160" cy="44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776916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the users know what to do at each st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users complete tasks (confidently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users use online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used misconceptions / err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users frustr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users detect and recover from err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AB81-7300-4DB3-A198-C474BDABBCD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1EC56-6174-4144-AA54-A785FD15994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4] Observation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ample Recording Form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61920" y="1598760"/>
          <a:ext cx="7680600" cy="44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598760"/>
                    <a:ext cx="768060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B928-CDE2-4129-8D56-A9B617FECEAD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25DD8-E47A-40CB-838C-83A10A4D9CF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4] Observation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Observational Skills Exercis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Task for Groups of F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Video Tw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you get more out of the second view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usions, errors, targets of positive/negative rema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Problem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y Norman's Stages, Foley &amp; Van Dam's Levels, Heur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 Modifications to Improv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63A8-11E8-46B7-AA0E-15DADF52CC2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C00A3-11BE-45BA-96C5-123E54C68BB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[5] Questionnair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gather data from many users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presenting a consistent (unbiased)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Question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User Interface Question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naire for UI Satisfaction (QU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ing Questionnaires, Inter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 of Question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rcise - Questionnair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00B5-309E-4F96-8319-440A3B891CC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D749E-58E1-45AF-A817-F9ECB8074E8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User Background Questionnair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sons to Admin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creen Users Before/After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lude users w/out prerequisite or with unwanted exper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tch Users for Compa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able users try different versions of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xplore Trends During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find some interesting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it is In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not be obtainable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42E8-30F0-4F92-B334-4A7A66BC742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B02CB-C5E4-4629-ABD5-0C3A519A6BA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User Background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ome User Background Question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 ranges can be obtained from exact age, but not vice 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der usually unrelated to performance, not always p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ce, marital status, children, eye-s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of Origin, Na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want to test international accep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(Concentration or Special Trai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st level more informative than highest deg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skills (e.g., library) or aptitudes (e.g., spat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erical, management, engineering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Experience /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years, how intensive, formal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board, mouse, graphical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applications, which brands, which ve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10D3-C7D5-490F-84E3-711B3FF5C80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C27CC-3B97-4C97-A892-931BA9D212C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imple User Interface Questionnair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insert your questions her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I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and Negativ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1060-4E52-4104-AD7A-9A0F4835461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EBE10-E829-42F0-AA72-194F19F359E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Simple Questionnaire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Getting Starte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09480" y="1676520"/>
          <a:ext cx="7750440" cy="433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7750440" cy="43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B829-B844-46F7-906B-E30C27271A4E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C1BAD-5BFD-49D1-A269-FC68DF39C2E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Simple Questionnaire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General Running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609480" y="1676520"/>
          <a:ext cx="7718400" cy="405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771840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0C1B-BB0D-4931-AC00-A4ABFD59C25B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C5710-5FD0-4393-AF4F-23FECF63EA6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1] Introduction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Goals for System Development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System Usability and U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 user satisfaction and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sufficiently low usability, there is no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d usability will improve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System Before Costly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 should apply to proto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To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 should minimize work by evalu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Little Training by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rs, not just specialists, should be able to evalu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roblem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perhaps suggest possible solutions (maybe for next rele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A0BF-FECB-4054-A14D-C0555DA1394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31C16-8A85-4C5F-AFD2-9EC44213C31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Simple Questionnaire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Final Impression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11280" y="1677960"/>
          <a:ext cx="7751520" cy="414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77960"/>
                    <a:ext cx="775152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7F85-A5B0-48D6-A394-3F62C6246A74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CB7E0-3D43-40D5-8DC0-D2829015DF7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Simple Questionnaire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sitive / Negativ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3 most negative points about the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3 most positive points about the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9F52-C8C9-45CE-BBA6-F42DF88923F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95C58-4F13-484B-9DA9-D2D4A9ED6C1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Simple Questionnaire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mprovement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your agreement with the following statement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aring the system you just tried to the previous version / the competition /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a 7-point rating scale: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ly disagree / disagree / mildly disagree / neutral / mildly agree /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NA (Not applicable) (if applic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room for comments on each question/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st negative points about the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questions that are no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tio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77EC-7815-4E78-9BC0-6493E486F37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F8EDF-9B94-4500-8AFC-95064233603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1] Introduction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Motivation for Evalua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Inadequate Intuition About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 design is a skilled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Must Be Able to Measure Goo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 we do not know if we are doing a good j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Bad at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what users want/need, of how they will re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Under/Overestimat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ir skills, their limi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NOT Ordinary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hard for us to imagine their con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uild Too Many Unevalu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don't know what are the parts with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1DB6-35F3-4100-924F-61CDAACB1DC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500FF-1428-4998-A461-1505309CD61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2T02:20:45Z</dcterms:created>
  <dc:creator>Caroline Palmer</dc:creator>
  <dc:description/>
  <dc:language>en-US</dc:language>
  <cp:lastModifiedBy>Gary Perlman</cp:lastModifiedBy>
  <dcterms:modified xsi:type="dcterms:W3CDTF">2001-07-24T16:22:26Z</dcterms:modified>
  <cp:revision>48</cp:revision>
  <dc:subject/>
  <dc:title>Practical Usability Evaluation</dc:title>
</cp:coreProperties>
</file>