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5ED8-77F9-4306-9315-C4A214499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ual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librarians remain relevant in the Webbed Wide Wor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ataloging guides (COR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rchiv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earch is one of OCLC’s most tested systems beca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ded for widest range of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is dedicated to usability (usability trumps functional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changes are made to FirstSearch hourly, or AM to P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stent proble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bas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ry planning (n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rase index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from u-tests, contextual inquiry, rum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go quickly through these and go back for discu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ons are impatient, unreali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b will create less sophisticated consumers of low-quality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stent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d addition of x-db search in FS 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s just want to get something, so they will enter very general terms without thinking that they will then need to filter irrelevant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rari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these indexes get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try to guess index format; use brow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5%?, maybe 99% simple ind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realize that indexes have a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 knows what goes into an ind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2 terms is based on millions of qu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teur+ not computer+ over 4000 in WorldC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ons may not trust controlled vocabularies, but do not look for var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 with foreign synta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IBIB experiences: error messages are minimally effe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elps to know the databa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Cat: ln=en dt=b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raries are very coope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eople don’t know OCLC ex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7 Ohio College Library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Cat used eve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 seconds to add a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seconds for ILL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econds for a search (86K seconds / d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library exis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s are a lightning rod for performance compla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rarians may not want to give full text access to for a serial in the st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ify library existence - see what we are doing for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rar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 to OP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ized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 over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MyFirstSearch is not a 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to a general strate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organ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ded navigation me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LC / legal out of way, more prom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 access to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ually, choose “best” database in topic and show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databases by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s an x-db strategy (next datab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suggests compatible databases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information in t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rarians have extensive knowledge of both information and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get what you pay for? OSU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hat do we do for FirstSearch pa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rarian tools: thesaurus, index brow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on tools: related items, suggested data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lligent agents making sugg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users will become more sophisticated because of the Web as people gain experience with pros and cons (what are parallels? Newspap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1 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7 advanced search, FT, history, multiling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9 x-db, limit to holdings, ranking/sorting, thesaurus, customization for db access,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: How do we develop FirstSear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to: How people use First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ype command in top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combine with bottom commands using one 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anted a graphical interface for all Boolean combination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se capabilities were only desired by librar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usability tests, both patrons and librarians got lost in Boolean 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applet from research - cool, but 250K down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ied version used colum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s did not understand structure of LC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ied to a flatter, record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, would not be widely used beca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athomable what thesauru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aurus lookup, like index browsing, is off the direct path to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LC, OLUC, LCSH, IHB, are unfathomable to most - people can’t believe that these artifacts exist (while ignorantly dismissing library science as a scie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rarians, who received college training in thesauri, use the effec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s are trained (medical, some sciences), but relatively f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re thesauri a waste of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a passive way to leverage the work invested in classification so it can be used by unsophisticated us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subjects” feature has been used extensively because of ease of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stresses recognition of related items instead of knowledge of thesau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LC Quality Policy: Quality is judged by the us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rarians often know users better than users know themsel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from research, marketing, sales, development, help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-lab motto: The user is always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run often followed by rede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nt addition of remote u-testing via NetMee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83F4-3168-4F36-BC2A-B17B6B2A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A0FF-1998-45D0-899A-74DFDCF3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A9B5-FBF5-4284-A8A6-E0B59A14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02CF-7F4E-4574-BCC0-42AAF071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B627-7D42-4139-B5B1-94763F64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3A9E-307C-4F52-94FB-E828D56C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BD07-9C64-469E-9830-019B18EE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6243-3627-4A76-9BCE-BDE33B5B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7195-AE20-4C23-A68B-8813DDE4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BEE8-93BC-47EC-91FA-0B2FCAB2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698B-93BA-4580-BBBF-620D4DE3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B0CB-1CD7-4447-947D-C3031EC6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1161-C3B5-42D3-BD0F-1287170A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1C4D-460B-46E6-9966-5213222E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618D-4698-40EA-ABD3-5DAC484A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698B-E7F4-455B-9973-D2C47000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1038-75ED-4965-B5F1-009431FD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353-0C10-4E13-B20F-FF361455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4CAC-BC9D-4BCA-8E5E-A0AB5864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79C2-E961-4739-B6C1-0EB2FE22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4E6C-BACA-4987-845A-25865E63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03A4-9E23-43FA-94A6-F41D77C8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241B-E958-4584-B3AB-AA1E8AE1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60B4-1936-49D5-BC51-F7BFE971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AE4C-5438-4716-B29E-99C5F0F6D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9CD5-4AA5-41FD-9CA4-C2C4A5BEE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clc.org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oclc.org/oclc/fsbi/" TargetMode="External"/><Relationship Id="rId2" Type="http://schemas.openxmlformats.org/officeDocument/2006/relationships/hyperlink" Target="http://www.oclc.org/oclc/new/n237/research/01research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clc.org/cgi-oclc/fs-sample.scr" TargetMode="External"/><Relationship Id="rId2" Type="http://schemas.openxmlformats.org/officeDocument/2006/relationships/hyperlink" Target="http://newfirstsearch.oclc.org/" TargetMode="External"/><Relationship Id="rId3" Type="http://schemas.openxmlformats.org/officeDocument/2006/relationships/hyperlink" Target="http://www.oclc.org/cgi-oclc/uncgi/fs5.scr.cgi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b-Based Bibliographic and Full Text Retrieval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ich Features/Which Users? 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910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ry Perlma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man@acm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ing Research Scient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LC Online Computer Library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irstSearch Usability Tes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for individu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ly changing system/prot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bility tests widely att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tasks: fact finding, known item search, general research, term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paring Librarians &amp; Patr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 observations about some differences between those trained in library science and the other 99% of the world, who are now learning about search from experiences on th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generalizations meant to promote discussion, not a classification of good/bad or right/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paring Librarians &amp; Patrons: 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ofi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brari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d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s full con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r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me the full text, n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some terms. Now, get me t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paring Librarians &amp; Patrons: 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rain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brar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d in general search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ystem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more options fir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bed mimickers - know some of what what Yahoo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 need to use help, I don't want to use i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e a box and fill it up,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ck on Go! and hope for luck.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e a box not far away,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eck it to work just your w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paring Librarians &amp; Patrons: 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Source Sele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brar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dicious choice of datab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and study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's a datab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paring Librarians &amp; Patrons: 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ormul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brar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sear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ed about quality of search and authority of retrieved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tisf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ademic interest in peer revi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paring Librarians &amp; Patrons: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Index U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brar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dozens per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dex for term and phrase se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5% of searches are keyword, author,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understand phrase index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paring Librarians &amp; Patrons: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erm Selec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brar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se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variants (e.g., plurals, British, Fren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1-2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lost in any tools; that are "off the path to resul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trust controlled vocabularies (“misses some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paring Librarians &amp; Patrons: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ery Languag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brar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n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d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xim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vo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dcard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paring Librarians &amp; Patrons: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Search Limi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brar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limits in advance (before the que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h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OCLC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profit member library assoc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urthering access to the world's information and reducing information cost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,304 libraries, 74 countries,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www.oclc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Union Catalog 43,114,704 records (10 million non-English, 12 million non-books), 743,016,404 holdings, 96,054,453 ILL reques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paring Librarians &amp; Patrons: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Relevance Rank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brar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't know how defined; sometimes ask for defin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't know i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uld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fi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everything is ranked by relevance, as they think it should be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paring Librarians &amp; Patrons: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Results Evalu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brar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results to previous search results (more/less, better/wors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looking at records, even if millions (assume relevance rank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't know why anyone would want bib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paring Librarians &amp; Patrons: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Budge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brar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consc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't want 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Hey, where's the full text?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paring Librarians &amp; Patrons: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ustomiz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brar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highlight library resources: YourFirst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save session history: MyFirst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paring Librarians &amp; Patrons: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hoice of Serv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brar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or influence cho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what's provi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eatures in Progress (April 2000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istent problem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may have access to 8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do not know what databases are, nor what's in th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y: Help users choos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w Home Scre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17324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ggested Databa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SoM" descr=""/>
          <p:cNvPicPr/>
          <p:nvPr/>
        </p:nvPicPr>
        <p:blipFill>
          <a:blip r:embed="rId1"/>
          <a:stretch/>
        </p:blipFill>
        <p:spPr>
          <a:xfrm>
            <a:off x="2054160" y="1981080"/>
            <a:ext cx="6008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ians are trained to organize and retrieve information that meets their patrons’ nee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systems allow patrons to search on their own; also promoted by free Web si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Search tries to raise the sophistication level of users with </a:t>
            </a: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bibliographic instr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nline help and to better understand users through research (e.g., </a:t>
            </a: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Normore, 199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haps it is unrealistic to think that patrons will be able to use (let alone understand) all the methods and tools used by libraria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eneral strategy in FirstSearch is to provide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ol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ll users (particularly sophisticated searchers), while provid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int-and-click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ome methods (e.g., related subjects, related databa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FirstSearch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interface to 86 Databas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Cat, ArticleFirst, ECO, NetFir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ons of records, 6000 full text serials, 2100 image 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,000 libraries, 250,414,113 search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6 Web version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Dem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9 New Web version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Lo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Dem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y Perl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lman@acm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acm.org/~perlman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laimer: Views expressed are my own and may not reflect official policies of OCLC. Examples shown may not appear in similar form, if ever, in First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irstSearch 4.0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7324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eature Development Examp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History in old First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off of flexibility with usa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many options make for a less usabl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oth graphical and command interaction on same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saurus Browsing Desig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prototype as Java appl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ied to highlight broader/narrow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ly unusable by non-librari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ied to not highlight hierarch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ly usable by non-librar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versions usable by librari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saurus Conclus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users will never understand what a thesauru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users find it unfathomable what cataloger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135400" y="198108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ral Observ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d items automates the use of thesaurus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do not need to know about controlled vocabul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135400" y="198108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w OCLC Ensures Usabil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from many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ing, surveys, beta testing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bility lab with small staff and volunt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design with dry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: librarians, students, researcher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: video, logging, notes,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0T16:44:52Z</dcterms:created>
  <dc:creator>Authorized OCLC User</dc:creator>
  <dc:description/>
  <dc:language>en-US</dc:language>
  <cp:lastModifiedBy>Authorized OCLC User</cp:lastModifiedBy>
  <dcterms:modified xsi:type="dcterms:W3CDTF">2000-04-18T15:49:41Z</dcterms:modified>
  <cp:revision>12</cp:revision>
  <dc:subject/>
  <dc:title>Web-Based Bibliographic and Full Text Retrieval: Which Features/Which Users?  </dc:title>
</cp:coreProperties>
</file>