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76E9-9EF9-44FC-9EC4-1C985ADCC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nted to allow people to contribute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contribution -&gt; partitioning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much prompting -&gt; comment form design an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much prompting -&gt; added special codes for regression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… localize decis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ies (variables) in INI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n cross-product later in cost-benefit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urpose: term, index,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ng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-specific parts in &amp;Lang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yl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form-specific parts in &amp;Style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-specific parts (no language, no format) in &amp;Pages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are defined in terms of parts - always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s that pages are consistent, easily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ag associates label wit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going to focus on FirstSearch, but on UU goals and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 -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-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dgets - Java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vigation in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ies give us the flexibility we need (nothing n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C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y for MSIE 4.x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Search already lets us do what we want for all platforms (3.0 brows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 some CSS for fine-graine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1.1 compression to reduce page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al entities set at initial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ng to many different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IE 3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Script true/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size = small/medium/large/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and math entities for Netscape and Lynx and MSIE 3.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embedded language and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latform-independent sty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ntities at runtime (could be at buil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strings not already extracted and create languag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s a second language.  Translation helped manage terminology.  Easy to change because defined in on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d language section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I (titles, actions, prom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 (fields,  indexes, limit val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-specific (e.g., ILL 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ection is formatted similarly, so it can have metad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&amp;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allow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at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language used to locate entities (not available in 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embedde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language entities and put English-language into language file (differences are noted for translation via em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ntities at runtime (could be at buil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language by changing  language data poi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lang.ini file separated to allow database group to work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version (simpler than GU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the page attributes to create a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multinational member library organization, OCLC has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commitment to universal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hierarchy can be over 10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ables cached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valuation means no files needed, so efficien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ges with different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levels of help (per db) or uses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is very dynamic, adapting to level - no cost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solution for accessibility because it does not work well on many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SI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good support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sc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obby and WAI - helps non-impaired (toolti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add HTML for access if UI is partitioned and decisions centr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s to fi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left i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d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atures controlled by INI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 = marketing, documentation, u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= graphic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ing the architecture did not help, but general UI rules raised awareness (programmers came for ad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rformance benefits because there are no HTML files (all dynam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good software develop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 of decisions on on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UI and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data and dis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were centralized, making glob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/changing anything hand multiplicativ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up was expensive, and requires maintenance, but some of that maintenance is part of UI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e frames forth $1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al was not to get it right, which is generally hopeless, but to allow us to change what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ready for change - no technical 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HORT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y requirements in unfamiliar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backed-up demand because of old system inflex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oks’ Mythical Man-Month - Second System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costs for redunda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Search is Z39.50 IR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changes to SiteSearch during ou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did a lot of testing and performance evalu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arded “high performance” 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ly Unicode note attemp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old dbs were EBCDIC, new are ASC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was one line in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tai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detai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n in the detailed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running out of resources and patience after a year of writing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y libraries did not want to up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over: Each 4.0 browser did what the other 3.0 browser did, so 4.0 requirement only added well-known functionalit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complained about lack of support of 3.0 brow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support for HTML 4.0, CSS had limi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” JavaScript, but allowed for more steps for non-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color-safe pal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appointment Centr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 MHz Win 95 64 M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40x480 256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0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4.0, system was not designed for translation  - had to find all English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easier the second time around - Design for translation from the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SO standard language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292-93E3-4C7E-BD1C-D1664BD2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9A3-679F-4FF4-96AE-D781A05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C15-3EB9-4115-A74E-80E6E70E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A66-36E2-4839-B1B7-D3724373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3C1E-C2A4-4933-BB3E-1113B919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28C9-686C-4A50-B413-97D2D71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FE81-6BB8-48C2-B346-DFFD1BCE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A614-D8A1-4765-B2A9-D9C2E48C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9AD4-3D55-4905-87CF-8BD1455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0977-0130-406D-A60F-7CF62F38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3B16-BEAC-4C80-BCC6-44C41CF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A0D-10B6-4DB3-AF9A-AAFA3E93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AA48-4035-45D4-B895-9201C79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6ABE-DEEF-4FA4-BA31-283754C0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9A6-13AC-4B69-A2B3-3A3B90FD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669C-83B0-44EE-B0E7-99785B09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9CD0-67BD-4104-A2A0-0433ED94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164-630B-45A9-ACD0-6615A0FA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E17-6447-481B-8747-6F654FA2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122-2616-445D-AAE2-23AFE005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FC0-66A4-4497-B323-F21E844A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C57-E037-4525-BC81-0ADE631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2AE-1AF9-4027-AD91-A53B8616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049-A8DB-4071-9A58-2A22C1D4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C95C-A05B-43DD-9E49-E5E8852A7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EF59-F47C-4B24-9EEC-8AAFC6972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3.org/TR/WAI-WEBCONTEN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clc.org/oclc/menu/site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FirstSearch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er Interface Architecture</a:t>
            </a:r>
            <a:br>
              <a:rPr sz="44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niversal Access for Any User,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 Many Languages, on Any Platfor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91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y Perlm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man@ocl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Research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LC Online Computer Library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vels of Us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wel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(most naïve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(most experienced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(query language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xt-Only / Accessible Ver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 for FirstSearch 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ADA-complian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l experience in th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etter Group Coordin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&amp;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&amp;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s, fonts, colors,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&amp; re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 for the UI Archite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 to inevitable requests for changes (due to new requirements, usability, performance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incremental develop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ue to so many unknow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 decisions &amp; allow glob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itioning and Constr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Partition (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selection, search,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tform-dependent Partition (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ty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, version, options,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-dependent Partition (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La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produ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ages and styles and languages us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nctional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FSPage Ob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 internal 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title displayed to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short phrase for links in men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-screen help t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-screen status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ge-specific contr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form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main form pa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50960" y="609480"/>
            <a:ext cx="54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Expert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expe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name   = 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title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title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label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label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ps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ips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tatus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rols   =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binfo.gadget;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canindex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hesaurus.gadget;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ews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ion     = QUERY:searchtype=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rm       = term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dex      = index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cus      = term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nel    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beg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basic.subm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xpert.searchbo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xpert.inde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advanced.limi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advanced.opti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basic.subm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Expert Search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arch bo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box  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row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font.label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&lt;label for=termexpe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label.fi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&lt;/lab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font.label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element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extarea name=termexpert </a:t>
            </a: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id=termexpe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termexpe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textare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element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row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t Search (Lynx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urrent database: WorldC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ype search terms and choose limits.  Click on Sear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the reference information on the scre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Searc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g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dexed in: [Keyword (kw:)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mit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ear          1990-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cument Type [Books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guage      [English__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brary Code 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_] Items in my library (OC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nk by: [No ranking_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Searc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info] [index] [subjects] [news] [help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CLC and First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New First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Interfac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Architecture Meets th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and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Detailed Reco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record]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name     = record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title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title.record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label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label.record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ps  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ips.record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tatus.record;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rols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hesaurus.gadget;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ill.gadget;    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holdings.gadget;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mail.gadget;  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rint.gadget;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ion       = FETCH:fetchtype=record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nel   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beg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avigate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record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avigate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95280" y="934920"/>
            <a:ext cx="70866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latform-Dependent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place Styles with Ent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up text with ent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stants, variables, and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Begin = &lt;font color=red size=4&gt;&lt;b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rrorEnd   = &lt;/b&gt;&lt;/fo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latform-Dependent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ify Entities with Ent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Begin = &lt;font color=red size=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&amp;ErrorSiz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lt;b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End   = &lt;/b&gt;&lt;/fo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screensize=defaul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Size 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screensize=sma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Size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screensize=larg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Size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yle Abstraction/Presen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228600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s/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426708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228600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26708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133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5200" y="5334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-Dependent Part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all language with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amp;Lang.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msg.bad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[ms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bad    = 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hits = Your search &lt;b&gt;&amp;query;&lt;/b&gt; matched no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js   = your browser does not support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ationalization/Localiz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228600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426708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228600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426708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133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5334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lingual Advanced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advanced-00-10-en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3738600" cy="26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advanced-00-10-es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426852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advanced-00-10-fr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03992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 of Partitio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.ini: function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.ini: platform-dependent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.ini (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.ini (Span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.ini (Fren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mplate-Based Page Gen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 pagename="&amp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&amp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statu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sti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form name="main" method="PO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="&amp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a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pan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control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FSMenu.gadg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OCLC and FirstSearch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rofit member library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rthering access to the world's information and reducing information cos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,000 libraries, 74 countries/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cataloging 43M+ records, 779M+ holdings, 103M+ 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interface to 80+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M+ records, 6K+ full text s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TY 1991, Web 1996, 16K+ libraries, ~10M searches/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ynamic Page Gen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2209680"/>
            <a:ext cx="1676160" cy="7621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1752480"/>
            <a:ext cx="1676520" cy="7621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5181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251460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181480" y="251460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752480"/>
            <a:ext cx="1676520" cy="7621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3505320"/>
            <a:ext cx="2286000" cy="7617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962520"/>
            <a:ext cx="2286000" cy="7617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x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4419720"/>
            <a:ext cx="2286000" cy="7617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9714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40972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971800" y="1905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apting to Levels of Us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n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Bas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dvanced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1 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 small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0-15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0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full-text/libr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simple 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omplex examples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ference material on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ynx Text-Only Ver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ame style file as graphical, but u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ical page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nx knows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tr&gt; starts a new 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ables could be left in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nx-only format ent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u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isplay: space, bar, break, line, paragraph,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cessibility Issues: </a:t>
            </a:r>
            <a:r>
              <a:rPr b="0" lang="en-US" sz="4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AI Gu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hows popup help on form elements and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ociates prompts with form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key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ociates Alt-x key with form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attributes: not yet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ordination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 files were easy to edit by non-programmers, b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scri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ru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ing style and langu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ized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viding control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- and small-scale changes were ma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Archite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, Language, and Functio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d in INI files - required the user interface police, armed with validat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 dependence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entity sub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cluding page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required a change of development paradigm - more rigorou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t-Benefit Analysi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ross-Product of Part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/change screen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/change tem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/change (conditional)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erminology in on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new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many access issues helped with individual (unexpected)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ritical to get design right; need to be able to change what is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the un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/change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” from us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man@ocl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cm.org/~perlma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Search: The Second System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y New Feat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o library ho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o available ful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database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 and 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hesau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wild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: Retire Related System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y Legacy 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Search TTY: 24x80 telne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C: que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llections Online: full text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Search Web (origi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: Avoid All Old Problem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y New 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pplication layer (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Site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urr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gramming language (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sion of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“high performance”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erver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y with One-Line of Det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lin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-on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ly accessibl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 compl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-Plat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: Netscape and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: 4.x (and then 3.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: availabl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size: large, medium,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: Windows, Macint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down to 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lingu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(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16:44:52Z</dcterms:created>
  <dc:creator>Authorized OCLC User</dc:creator>
  <dc:description/>
  <dc:language>en-US</dc:language>
  <cp:lastModifiedBy>Authorized OCLC User</cp:lastModifiedBy>
  <cp:lastPrinted>2000-03-11T18:57:51Z</cp:lastPrinted>
  <dcterms:modified xsi:type="dcterms:W3CDTF">2000-11-13T19:59:44Z</dcterms:modified>
  <cp:revision>46</cp:revision>
  <dc:subject/>
  <dc:title>Web-Based Bibliographic and Full Text Retrieval: Which Features/Which Users?  </dc:title>
</cp:coreProperties>
</file>