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11530-DA0A-402C-9B62-EEB6B706BC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4.0, system was not designed for transl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ybe easier the second time arou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English is a translated language from the internal langu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e: See a box and fill it, see a button and click it -&gt; 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e: all things to all peo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nted to allow people to contribute independent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ependent contribution -&gt; partitioning of in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elopment: low UI experti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S: much prompting -&gt; comment form design and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A: much prompting -&gt; added special codes for regression tes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design/code ourselves into a corner like 4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Java was not going to do it by itself, especially with so many Java nov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ver say “Can’t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nted to help all groups get the most of their options, even if they did not know how at first (Never say “You missed your chance to …”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was not critical to get the design right, but it was critical to be able to change what was wrong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t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ial purpose: term, index, foc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nguage-specific parts in &amp;Lang ent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tform-specific parts in &amp;Style ent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-specific parts (no language, no format) in &amp;Pages ent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ult is that pages are consistent, easily chang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going to focus on FirstSearch, but on UU goals and metho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titi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in - variab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yle - structur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dgets - Java metho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ML is defined elsew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not CS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kay for MSIE 4.x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teSearch already lets us do what we want for all platforms (3.0 browser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use some CSS for fine-grained contr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ditional entities set at initializ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apting to many different variab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SIE 3 col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avaScript true/fal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reensize = small/medium/large/unknow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many conditional section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on’t need to know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They are independ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ek and math entities most recent addition for Netscape and Lynx and MSIE 3.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rt with embedded language and sty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platform-independent sty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stitute entities at runtime (could be at build tim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MO: change options/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strings not already extracted and create language 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nguage sections for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s of UI (titles, actions, promp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b info + indexes + limiter valu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-specific (e.g., ILL for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section is formatted similarly, so it can have metadata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xl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&amp;l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ML allow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iod at en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tity language used ot locate entities (not available in product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MO language sel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rt with embedded langu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sert language entities and put English-language into language file (differences are noted for translation via emai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stitute entities at runtime (could be at build tim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blang.ini file separated to allow database group to work independent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a multinational member library organization, OCLC has a special commitment to universal ac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ynx ver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s the page attributes to create a p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ynx version is one-dimensional so it is easier to underst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e top entity to pri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pages with different par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levels of help (per db) or uses defau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lp is very dynamic - no cost concer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SIE - good sup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scape - n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ripts to fi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glish left in fi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d 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don’t get to make that decision,” mostly welcomed by programm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keting changed terminology, several style revisions (framed to unfram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features controlled by INI fi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MO old scree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cumenting the architecture did not help, but general UI rules raised awareness (programmers came for advi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performance benefits because there are no HTML files (all dynami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o abstract, so initial development used generated files, migrated to full gene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 Are frames forth $1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y goal was not to get it right, which is generally hopeless, but to allow us to change what was wro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st/benefit: incremental / proportionate / multiplicative (cross-produc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e all scree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 an attrib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 a new scre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ill ready for change - no technical bounda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SHORT: many reqs in unfamiliar are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ooks’ Mythical Man-Mon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brary holdings that catalog with 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-db search possible because of major standard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lot of backed-up demand because of old system inflexibi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cos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ndant in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teSearch is Z39.50 IR 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times major changes to SiteSearch during our develop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ended up doing a lot of testing and performance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nicode note attempted (old dbs were EBCDIC, new are ASCI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urning into a requirements nightm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of these was one line in the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detaile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requirements (there is more detail here than in the detailed requirements), but we were running out of resources and patience after a year of writing requireme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ossover: Each 4.0 browser did what the other 3.0 browser did, so 4.0 requirement only added well-known functionality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rs complained about lack of support of 3.0 brows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scape support for HTML 4.0, CSS had limit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ired” JavaScript, but allowed for more steps for non-J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scape color-safe palet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appointment Central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 MHz Win 95 64 Me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40x480 256 col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0 browsers (many libraries would not upgrad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8B3AC-4CFF-4DEA-BDCA-2AFEC81F7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FA9A9-65CD-4E0D-ADA9-886EE23B9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95D77-A846-41C3-9238-D61FCCCAA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4897D-EA79-4A2D-8F32-D093E9955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6E949-D015-47CB-A6E4-DE71DDC12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50B16-D110-4473-99A7-B3D4FB7DC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6C550-B3F5-4FB9-AAEB-103471AA6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55691-DC5C-476E-986F-051F2490E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0D788-0586-45C4-9EE9-C37D6AF4C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C36E7-EB3F-498A-831F-6B1C229CA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FAABB-5092-4AAF-ADA3-B2CD4B8CD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3C7BA-8D52-476A-8797-0028710A3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9BF35-391F-43E1-A6AB-B7651D695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4439F-5FA3-4792-9A3F-7E6808F58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F8328-9D21-4E1E-B50A-C11DFDEA1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B407E-8433-47BE-B4B0-15E0AFD61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990D0-EE10-4F7C-ADAA-013405502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F80A8-EDB9-4DB8-9976-6E8B879C2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05C81-6D40-4166-8A00-93758328C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D4C68-E83B-4304-9D24-AA7EA959E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BD14B-F5D8-44E8-8054-D8BC21965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D0E4C-B78D-40B4-82CF-46A5DBE7C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A046B-6B0E-4A75-96F4-AA122C191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B487F-54D4-4A84-879E-69BBABE68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594F9-A6AF-4230-B734-C508CC62E7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34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AB068-61FF-4DA0-B33F-F4FA3FB4C8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oclc.org/" TargetMode="External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w3.org/TR/WAI-WEBCONTENT/" TargetMode="External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firstsearch.oclc.org/" TargetMode="Externa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oclc.org/oclc/menu/site.htm" TargetMode="External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73240" y="134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The FirstSearch </a:t>
            </a:r>
            <a:br>
              <a:rPr sz="4400"/>
            </a:b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User Interface Architecture</a:t>
            </a:r>
            <a:br>
              <a:rPr sz="4400"/>
            </a:b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Universal Access for Any User, </a:t>
            </a:r>
            <a:br>
              <a:rPr sz="2400"/>
            </a:b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in Many Languages, on Any Platform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166760" y="3886200"/>
            <a:ext cx="69105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ary Perlman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lman@oclc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ulting Research Scient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CLC Online Computer Library Ce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General Requirements:</a:t>
            </a:r>
            <a:br>
              <a:rPr sz="4400"/>
            </a:b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Multilingual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glish (e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ench (f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nish (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General Requirements:</a:t>
            </a:r>
            <a:br>
              <a:rPr sz="4400"/>
            </a:b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Levels of User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me (welcom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ic (most naïve user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ced (most experienced user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rt (query language user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General Requirements:</a:t>
            </a:r>
            <a:br>
              <a:rPr sz="4400"/>
            </a:b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Text-Only / Accessible Vers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placement for FirstSearch T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sible ADA-compliant ver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real experience in the ar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General Requirements:</a:t>
            </a:r>
            <a:br>
              <a:rPr sz="4400"/>
            </a:b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Better Group Coordinat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velopm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atabas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ading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rket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irements &amp; termin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lp &amp; trans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raphic desig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cons, fonts, colors, layo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abilit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aluation &amp; re-desig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Goals for the UI Architectur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apt to inevitable requests for changes (due to new requirements, usability, performance, etc.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ow incremental development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due to so many unknown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er decisions &amp; allow global chan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Not critical to get design right, but critical to be able to change what was wrong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Partitioning and Construct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unctional Partition (</a:t>
            </a:r>
            <a:r>
              <a:rPr b="1" lang="en-US" sz="3200" spc="-1" strike="noStrike">
                <a:solidFill>
                  <a:srgbClr val="0099cc"/>
                </a:solidFill>
                <a:latin typeface="Arial"/>
              </a:rPr>
              <a:t>Page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abase selection, search,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latform-dependent Partition (</a:t>
            </a:r>
            <a:r>
              <a:rPr b="1" lang="en-US" sz="3200" spc="-1" strike="noStrike">
                <a:solidFill>
                  <a:srgbClr val="0099cc"/>
                </a:solidFill>
                <a:latin typeface="Arial"/>
              </a:rPr>
              <a:t>Styl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owser, version, options, hard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nguage-dependent Partition (</a:t>
            </a:r>
            <a:r>
              <a:rPr b="1" lang="en-US" sz="3200" spc="-1" strike="noStrike">
                <a:solidFill>
                  <a:srgbClr val="0099cc"/>
                </a:solidFill>
                <a:latin typeface="Arial"/>
              </a:rPr>
              <a:t>Lang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ross-products of pages and partitions using Templ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Functional Partition:</a:t>
            </a:r>
            <a:br>
              <a:rPr sz="4400"/>
            </a:b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The FSPage Objec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499"/>
              </a:spcBef>
              <a:spcAft>
                <a:spcPts val="499"/>
              </a:spcAft>
              <a:buClr>
                <a:srgbClr val="0099cc"/>
              </a:buClr>
              <a:buSzPct val="7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gena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an internal identifi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99"/>
              </a:spcBef>
              <a:spcAft>
                <a:spcPts val="499"/>
              </a:spcAft>
              <a:buClr>
                <a:srgbClr val="0099cc"/>
              </a:buClr>
              <a:buSzPct val="7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getit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a title displayed to use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99"/>
              </a:spcBef>
              <a:spcAft>
                <a:spcPts val="499"/>
              </a:spcAft>
              <a:buClr>
                <a:srgbClr val="0099cc"/>
              </a:buClr>
              <a:buSzPct val="7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gelabe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a short phrase for links in menu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99"/>
              </a:spcBef>
              <a:spcAft>
                <a:spcPts val="499"/>
              </a:spcAft>
              <a:buClr>
                <a:srgbClr val="0099cc"/>
              </a:buClr>
              <a:buSzPct val="7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p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on-screen help tip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99"/>
              </a:spcBef>
              <a:spcAft>
                <a:spcPts val="499"/>
              </a:spcAft>
              <a:buClr>
                <a:srgbClr val="0099cc"/>
              </a:buClr>
              <a:buSzPct val="7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on-screen status inform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99"/>
              </a:spcBef>
              <a:spcAft>
                <a:spcPts val="499"/>
              </a:spcAft>
              <a:buClr>
                <a:srgbClr val="0099cc"/>
              </a:buClr>
              <a:buSzPct val="7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o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page-specific control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99"/>
              </a:spcBef>
              <a:spcAft>
                <a:spcPts val="499"/>
              </a:spcAft>
              <a:buClr>
                <a:srgbClr val="0099cc"/>
              </a:buClr>
              <a:buSzPct val="7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a form ac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99"/>
              </a:spcBef>
              <a:spcAft>
                <a:spcPts val="499"/>
              </a:spcAft>
              <a:buClr>
                <a:srgbClr val="0099cc"/>
              </a:buClr>
              <a:buSzPct val="7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ne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a main form pane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99"/>
              </a:spcBef>
              <a:spcAft>
                <a:spcPts val="499"/>
              </a:spcAft>
              <a:buClr>
                <a:srgbClr val="0099cc"/>
              </a:buClr>
              <a:buSzPct val="7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.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FSPage for Expert Search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17324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[expert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agename   = expe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agetitle  = &amp;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</a:rPr>
              <a:t>Lang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pagetitle.exper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agelabel  = &amp;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</a:rPr>
              <a:t>Lang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pagelabel.exper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tips       = &amp;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</a:rPr>
              <a:t>Lang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tips.exper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atus     = &amp;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</a:rPr>
              <a:t>Lang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status.exper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ontrols   = &amp;</a:t>
            </a:r>
            <a:r>
              <a:rPr b="0" lang="en-US" sz="1400" spc="-1" strike="noStrike">
                <a:solidFill>
                  <a:srgbClr val="0000ff"/>
                </a:solidFill>
                <a:latin typeface="Courier New"/>
              </a:rPr>
              <a:t>Styl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dbinfo.gadget;    &amp;</a:t>
            </a:r>
            <a:r>
              <a:rPr b="0" lang="en-US" sz="1400" spc="-1" strike="noStrike">
                <a:solidFill>
                  <a:srgbClr val="0000ff"/>
                </a:solidFill>
                <a:latin typeface="Courier New"/>
              </a:rPr>
              <a:t>Styl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scanindex.gadge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amp;</a:t>
            </a:r>
            <a:r>
              <a:rPr b="0" lang="en-US" sz="1400" spc="-1" strike="noStrike">
                <a:solidFill>
                  <a:srgbClr val="0000ff"/>
                </a:solidFill>
                <a:latin typeface="Courier New"/>
              </a:rPr>
              <a:t>Styl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thesaurus.gadget; &amp;</a:t>
            </a:r>
            <a:r>
              <a:rPr b="0" lang="en-US" sz="1400" spc="-1" strike="noStrike">
                <a:solidFill>
                  <a:srgbClr val="0000ff"/>
                </a:solidFill>
                <a:latin typeface="Courier New"/>
              </a:rPr>
              <a:t>Styl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news.gadge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action     = /&amp;namespace;/FSQUERY:searchtype=expe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term       = termexpe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dex      = indexexpe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ocus      = termexpe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anel      =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amp;</a:t>
            </a:r>
            <a:r>
              <a:rPr b="0" lang="en-US" sz="1400" spc="-1" strike="noStrike">
                <a:solidFill>
                  <a:srgbClr val="0000ff"/>
                </a:solidFill>
                <a:latin typeface="Courier New"/>
              </a:rPr>
              <a:t>Styl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dialog.begin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amp;</a:t>
            </a:r>
            <a:r>
              <a:rPr b="0" lang="en-US" sz="1400" spc="-1" strike="noStrike">
                <a:solidFill>
                  <a:srgbClr val="009900"/>
                </a:solidFill>
                <a:latin typeface="Courier New"/>
              </a:rPr>
              <a:t>Pages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basic.submi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amp;</a:t>
            </a:r>
            <a:r>
              <a:rPr b="0" lang="en-US" sz="1400" spc="-1" strike="noStrike">
                <a:solidFill>
                  <a:srgbClr val="009900"/>
                </a:solidFill>
                <a:latin typeface="Courier New"/>
              </a:rPr>
              <a:t>Pages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expert.searchbox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amp;</a:t>
            </a:r>
            <a:r>
              <a:rPr b="0" lang="en-US" sz="1400" spc="-1" strike="noStrike">
                <a:solidFill>
                  <a:srgbClr val="009900"/>
                </a:solidFill>
                <a:latin typeface="Courier New"/>
              </a:rPr>
              <a:t>Pages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expert.index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amp;</a:t>
            </a:r>
            <a:r>
              <a:rPr b="0" lang="en-US" sz="1400" spc="-1" strike="noStrike">
                <a:solidFill>
                  <a:srgbClr val="009900"/>
                </a:solidFill>
                <a:latin typeface="Courier New"/>
              </a:rPr>
              <a:t>Pages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advanced.limit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amp;</a:t>
            </a:r>
            <a:r>
              <a:rPr b="0" lang="en-US" sz="1400" spc="-1" strike="noStrike">
                <a:solidFill>
                  <a:srgbClr val="009900"/>
                </a:solidFill>
                <a:latin typeface="Courier New"/>
              </a:rPr>
              <a:t>Pages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advanced.option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amp;</a:t>
            </a:r>
            <a:r>
              <a:rPr b="0" lang="en-US" sz="1400" spc="-1" strike="noStrike">
                <a:solidFill>
                  <a:srgbClr val="009900"/>
                </a:solidFill>
                <a:latin typeface="Courier New"/>
              </a:rPr>
              <a:t>Pages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basic.submi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amp;</a:t>
            </a:r>
            <a:r>
              <a:rPr b="0" lang="en-US" sz="1400" spc="-1" strike="noStrike">
                <a:solidFill>
                  <a:srgbClr val="0000ff"/>
                </a:solidFill>
                <a:latin typeface="Courier New"/>
              </a:rPr>
              <a:t>Styl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dialog.end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FSPage for Expert Search:</a:t>
            </a:r>
            <a:br>
              <a:rPr sz="4400"/>
            </a:b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search box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17324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[expert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earchbox    =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amp;</a:t>
            </a:r>
            <a:r>
              <a:rPr b="0" lang="en-US" sz="1600" spc="-1" strike="noStrike">
                <a:solidFill>
                  <a:srgbClr val="0000ff"/>
                </a:solidFill>
                <a:latin typeface="Courier New"/>
              </a:rPr>
              <a:t>Style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dialog.rowbegin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amp;</a:t>
            </a:r>
            <a:r>
              <a:rPr b="0" lang="en-US" sz="1600" spc="-1" strike="noStrike">
                <a:solidFill>
                  <a:srgbClr val="0000ff"/>
                </a:solidFill>
                <a:latin typeface="Courier New"/>
              </a:rPr>
              <a:t>Style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font.labelbegin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label for=termexper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amp;</a:t>
            </a:r>
            <a:r>
              <a:rPr b="0" lang="en-US" sz="1600" spc="-1" strike="noStrike">
                <a:solidFill>
                  <a:srgbClr val="ff0000"/>
                </a:solidFill>
                <a:latin typeface="Courier New"/>
              </a:rPr>
              <a:t>Lang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label.find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/label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amp;</a:t>
            </a:r>
            <a:r>
              <a:rPr b="0" lang="en-US" sz="1600" spc="-1" strike="noStrike">
                <a:solidFill>
                  <a:srgbClr val="0000ff"/>
                </a:solidFill>
                <a:latin typeface="Courier New"/>
              </a:rPr>
              <a:t>Style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font.labelend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amp;</a:t>
            </a:r>
            <a:r>
              <a:rPr b="0" lang="en-US" sz="1600" spc="-1" strike="noStrike">
                <a:solidFill>
                  <a:srgbClr val="0000ff"/>
                </a:solidFill>
                <a:latin typeface="Courier New"/>
              </a:rPr>
              <a:t>Style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dialog.elementbegin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textarea name=termexpert id=termexper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amp;termexper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/textarea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amp;</a:t>
            </a:r>
            <a:r>
              <a:rPr b="0" lang="en-US" sz="1600" spc="-1" strike="noStrike">
                <a:solidFill>
                  <a:srgbClr val="0000ff"/>
                </a:solidFill>
                <a:latin typeface="Courier New"/>
              </a:rPr>
              <a:t>Style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dialog.elementend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amp;</a:t>
            </a:r>
            <a:r>
              <a:rPr b="0" lang="en-US" sz="1600" spc="-1" strike="noStrike">
                <a:solidFill>
                  <a:srgbClr val="0000ff"/>
                </a:solidFill>
                <a:latin typeface="Courier New"/>
              </a:rPr>
              <a:t>Style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dialog.rowend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1650960" y="609480"/>
            <a:ext cx="54532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OCLC and FirstSearch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s for New FirstSear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User Interface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the Architecture Meets the 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 and Conclu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Expert Search (Lynx)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Current database: WorldC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Type search terms and choose limits.  Click on Search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Use the reference information on the scree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[Search]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dog__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Indexed in: [Keyword (kw:)_________]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Limit to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Year          1990-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Document Type [Books________]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Language      [English___________]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Library Code  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[_] Items in my library (OC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Rank by: [No ranking__________]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[Search]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[info] [index] [subjects] [news] [help]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FSPage for Detailed Record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7324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[record]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agename     = record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agetitle    = &amp;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</a:rPr>
              <a:t>Lang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pagetitle.record;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agelabel    = &amp;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</a:rPr>
              <a:t>Lang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pagelabel.record;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tips         = &amp;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</a:rPr>
              <a:t>Lang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tips.record;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atus       = &amp;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</a:rPr>
              <a:t>Lang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status.record;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ontrols     =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amp;</a:t>
            </a:r>
            <a:r>
              <a:rPr b="0" lang="en-US" sz="1400" spc="-1" strike="noStrike">
                <a:solidFill>
                  <a:srgbClr val="0000ff"/>
                </a:solidFill>
                <a:latin typeface="Courier New"/>
              </a:rPr>
              <a:t>Styl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thesaurus.gadget;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amp;</a:t>
            </a:r>
            <a:r>
              <a:rPr b="0" lang="en-US" sz="1400" spc="-1" strike="noStrike">
                <a:solidFill>
                  <a:srgbClr val="0000ff"/>
                </a:solidFill>
                <a:latin typeface="Courier New"/>
              </a:rPr>
              <a:t>Styl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ill.gadget;        &amp;</a:t>
            </a:r>
            <a:r>
              <a:rPr b="0" lang="en-US" sz="1400" spc="-1" strike="noStrike">
                <a:solidFill>
                  <a:srgbClr val="0000ff"/>
                </a:solidFill>
                <a:latin typeface="Courier New"/>
              </a:rPr>
              <a:t>Styl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holdings.gadget;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amp;</a:t>
            </a:r>
            <a:r>
              <a:rPr b="0" lang="en-US" sz="1400" spc="-1" strike="noStrike">
                <a:solidFill>
                  <a:srgbClr val="0000ff"/>
                </a:solidFill>
                <a:latin typeface="Courier New"/>
              </a:rPr>
              <a:t>Styl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email.gadget;      &amp;</a:t>
            </a:r>
            <a:r>
              <a:rPr b="0" lang="en-US" sz="1400" spc="-1" strike="noStrike">
                <a:solidFill>
                  <a:srgbClr val="0000ff"/>
                </a:solidFill>
                <a:latin typeface="Courier New"/>
              </a:rPr>
              <a:t>Styl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print.gadget;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action       = /&amp;namespace;/FSFETCH:fetchtype=record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anel        =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amp;</a:t>
            </a:r>
            <a:r>
              <a:rPr b="0" lang="en-US" sz="1400" spc="-1" strike="noStrike">
                <a:solidFill>
                  <a:srgbClr val="0000ff"/>
                </a:solidFill>
                <a:latin typeface="Courier New"/>
              </a:rPr>
              <a:t>Styl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dialog.begin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amp;</a:t>
            </a:r>
            <a:r>
              <a:rPr b="0" lang="en-US" sz="1400" spc="-1" strike="noStrike">
                <a:solidFill>
                  <a:srgbClr val="0000ff"/>
                </a:solidFill>
                <a:latin typeface="Courier New"/>
              </a:rPr>
              <a:t>Styl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dbsuggest.gadge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amp;</a:t>
            </a:r>
            <a:r>
              <a:rPr b="0" lang="en-US" sz="1400" spc="-1" strike="noStrike">
                <a:solidFill>
                  <a:srgbClr val="0000ff"/>
                </a:solidFill>
                <a:latin typeface="Courier New"/>
              </a:rPr>
              <a:t>Styl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navigate.gadge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amp;</a:t>
            </a:r>
            <a:r>
              <a:rPr b="0" lang="en-US" sz="1400" spc="-1" strike="noStrike">
                <a:solidFill>
                  <a:srgbClr val="0000ff"/>
                </a:solidFill>
                <a:latin typeface="Courier New"/>
              </a:rPr>
              <a:t>Styl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record.gadge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amp;</a:t>
            </a:r>
            <a:r>
              <a:rPr b="0" lang="en-US" sz="1400" spc="-1" strike="noStrike">
                <a:solidFill>
                  <a:srgbClr val="0000ff"/>
                </a:solidFill>
                <a:latin typeface="Courier New"/>
              </a:rPr>
              <a:t>Styl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navigate.gadge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amp;</a:t>
            </a:r>
            <a:r>
              <a:rPr b="0" lang="en-US" sz="1400" spc="-1" strike="noStrike">
                <a:solidFill>
                  <a:srgbClr val="0000ff"/>
                </a:solidFill>
                <a:latin typeface="Courier New"/>
              </a:rPr>
              <a:t>Styl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dialog.end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1295280" y="934920"/>
            <a:ext cx="7086600" cy="51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Platform-Dependent Partition:</a:t>
            </a:r>
            <a:br>
              <a:rPr sz="4400"/>
            </a:b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Replace Styles with Entiti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k up text with entitie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constants, variables, and method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Courier New"/>
              </a:rPr>
              <a:t>&amp;ErrorBegin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Something bad happe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urier New"/>
              </a:rPr>
              <a:t>&amp;ErrorEn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Courier New"/>
              </a:rPr>
              <a:t>ErrorBegin = &lt;font color=red size=4&gt;&lt;b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urier New"/>
              </a:rPr>
              <a:t>ErrorEnd   = &lt;/b&gt;&lt;/font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Platform-Dependent Partition:</a:t>
            </a:r>
            <a:br>
              <a:rPr sz="4400"/>
            </a:b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Modify Entities with Entiti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ify entities to match platform nee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amp;ErrorBegin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Something bad happe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amp;ErrorEn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rrorBegin = &lt;font color=red size=</a:t>
            </a:r>
            <a:r>
              <a:rPr b="1" lang="en-US" sz="1800" spc="-1" strike="noStrike">
                <a:solidFill>
                  <a:srgbClr val="009900"/>
                </a:solidFill>
                <a:latin typeface="Courier New"/>
              </a:rPr>
              <a:t>&amp;ErrorSize;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gt;&lt;b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rrorEnd   = &lt;/b&gt;&lt;/font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Courier New"/>
              </a:rPr>
              <a:t>ErrorSize  =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[screensize=small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Courier New"/>
              </a:rPr>
              <a:t>ErrorSize =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[screensize=large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Courier New"/>
              </a:rPr>
              <a:t>ErrorSize =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Style Abstraction/Presentat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286000"/>
            <a:ext cx="2286000" cy="1447920"/>
          </a:xfrm>
          <a:prstGeom prst="ellipse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tra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mats/sty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181480" y="4267080"/>
            <a:ext cx="2286000" cy="1447920"/>
          </a:xfrm>
          <a:prstGeom prst="ellipse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y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stit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181480" y="2286000"/>
            <a:ext cx="2286000" cy="1447920"/>
          </a:xfrm>
          <a:prstGeom prst="rect">
            <a:avLst/>
          </a:prstGeom>
          <a:solidFill>
            <a:srgbClr val="e1e1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depend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ML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133720" y="4267080"/>
            <a:ext cx="2286000" cy="1447920"/>
          </a:xfrm>
          <a:prstGeom prst="rect">
            <a:avLst/>
          </a:prstGeom>
          <a:solidFill>
            <a:srgbClr val="e1e1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y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19720" y="50292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419720" y="29718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76720" y="37339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324480" y="37339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76520" y="2133720"/>
            <a:ext cx="6094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315200" y="5334120"/>
            <a:ext cx="6094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Language-Dependent Partit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place all language with ent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amp;ErrorBegin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amp;Lang.</a:t>
            </a:r>
            <a:r>
              <a:rPr b="1" lang="en-US" sz="1800" spc="-1" strike="noStrike">
                <a:solidFill>
                  <a:srgbClr val="009900"/>
                </a:solidFill>
                <a:latin typeface="Courier New"/>
              </a:rPr>
              <a:t>msg.bad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amp;ErrorEn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Courier New"/>
              </a:rPr>
              <a:t>[msg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Courier New"/>
              </a:rPr>
              <a:t>bad    = Something bad happe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nohits = Your search &lt;b&gt;&amp;query;&lt;/b&gt; matched no rec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nojs   = your browser does not support JavaScri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Internationalization/Localizat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133720" y="2286000"/>
            <a:ext cx="2286000" cy="1447920"/>
          </a:xfrm>
          <a:prstGeom prst="ellipse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l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in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181480" y="4267080"/>
            <a:ext cx="2286000" cy="1447920"/>
          </a:xfrm>
          <a:prstGeom prst="ellipse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stit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181480" y="2286000"/>
            <a:ext cx="2286000" cy="1447920"/>
          </a:xfrm>
          <a:prstGeom prst="rect">
            <a:avLst/>
          </a:prstGeom>
          <a:solidFill>
            <a:srgbClr val="e1e1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nguage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depend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ML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133720" y="4267080"/>
            <a:ext cx="2286000" cy="1447920"/>
          </a:xfrm>
          <a:prstGeom prst="rect">
            <a:avLst/>
          </a:prstGeom>
          <a:solidFill>
            <a:srgbClr val="e1e1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419720" y="50292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19720" y="29718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276720" y="37339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324480" y="37339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676520" y="2133720"/>
            <a:ext cx="6094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7315200" y="5334120"/>
            <a:ext cx="6094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Multilingual Advanced Search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06" name="advanced-00-10-en" descr=""/>
          <p:cNvPicPr/>
          <p:nvPr/>
        </p:nvPicPr>
        <p:blipFill>
          <a:blip r:embed="rId1"/>
          <a:stretch/>
        </p:blipFill>
        <p:spPr>
          <a:xfrm>
            <a:off x="1143000" y="1600200"/>
            <a:ext cx="3738600" cy="2635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07" name="advanced-00-10-es" descr=""/>
          <p:cNvPicPr/>
          <p:nvPr/>
        </p:nvPicPr>
        <p:blipFill>
          <a:blip r:embed="rId2"/>
          <a:stretch/>
        </p:blipFill>
        <p:spPr>
          <a:xfrm>
            <a:off x="2819520" y="2590920"/>
            <a:ext cx="4268520" cy="2698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08" name="advanced-00-10-fr" descr=""/>
          <p:cNvPicPr/>
          <p:nvPr/>
        </p:nvPicPr>
        <p:blipFill>
          <a:blip r:embed="rId3"/>
          <a:stretch/>
        </p:blipFill>
        <p:spPr>
          <a:xfrm>
            <a:off x="4648320" y="3505320"/>
            <a:ext cx="4039920" cy="2698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Result of Partitioning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ges.ini: functional deci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yle.ini: platform-dependent deci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fil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.ini (English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.ini (Spanish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.ini (French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What is OCLC?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n-profit member library associ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urthering access to the world's information and reducing information costs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7,000 libraries, 74 countries/territories </a:t>
            </a:r>
            <a:r>
              <a:rPr b="0" lang="en-US" sz="3200" spc="-1" strike="noStrike" u="sng">
                <a:solidFill>
                  <a:srgbClr val="99ccff"/>
                </a:solidFill>
                <a:uFillTx/>
                <a:latin typeface="Arial"/>
                <a:hlinkClick r:id="rId1"/>
              </a:rPr>
              <a:t>www.oclc.or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line Union Catalog 43M+ records (10 million non-English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2 million non-books), 772M+ holdings, 101M+ ILL reques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Template-Based Page Generat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17324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html lang="&amp;language;" pagename="&amp;F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genam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hea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title&gt;&amp;F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getitl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&lt;/titl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/hea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body bgcolor="#FFFFFF" &amp;linkcolors;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h1&gt;&amp;F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getitl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&lt;/h1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amp;F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getips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amp;F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gestatus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form name="main" method="POST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ction="&amp;F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geactio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amp;F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gepane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amp;F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gecontrols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amp;</a:t>
            </a:r>
            <a:r>
              <a:rPr b="0" lang="en-US" sz="1800" spc="-1" strike="noStrike">
                <a:solidFill>
                  <a:srgbClr val="0000ff"/>
                </a:solidFill>
                <a:latin typeface="Courier New"/>
              </a:rPr>
              <a:t>Styl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FSMenu.gadge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/form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/body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/html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dapting to Levels of User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age nam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Basic, Advanced, Expe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arch bo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1 small, 3 small, 1 lar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dex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3, 10-15, 20-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imi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full-text/library, 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el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simple examples, complex examples, reference material on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Lynx Text-Only Vers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d same style file as graphical, but used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ertical page templ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ynx knows tha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&lt;tr&gt; starts a new lin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so tables could be left in HT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ynx-only format entiti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used to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un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e display: space, bar, break, line, paragraph, com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ccessibility Issues: </a:t>
            </a:r>
            <a:r>
              <a:rPr b="0" lang="en-US" sz="4400" spc="-1" strike="noStrike" u="sng">
                <a:solidFill>
                  <a:srgbClr val="99ccff"/>
                </a:solidFill>
                <a:uFillTx/>
                <a:latin typeface="Times New Roman"/>
                <a:hlinkClick r:id="rId1"/>
              </a:rPr>
              <a:t>WAI Guid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tle attribu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shows popup help on form elements and lin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BE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a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associates prompts with form el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ccesskey attribu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associates Alt-x key with form el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ble attributes: not yet suppor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oordination Issu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I files were easy to edit by non-programmers, bu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alidation scrip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ere run for 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itioning style and languag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entralized decis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providing control to the right autho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rge- and small-scale changes were mad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dependent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Summary of Architectur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yle, Language, and Functional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arti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tored in INI files - required the user interface police, armed with validation 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avy dependence on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ynamic entity substitu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including page templ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th required a change of development paradigm - more rigorous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onclusion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asy global chang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llowed a quick switch from framed to unframed, and later, other  global chan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chitecture als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volves easil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adding pages, changing terminology, adapting to new cond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Thank You!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ry Perlm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lman@oclc.or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acm.org/~perlman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What is FirstSearch?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form interface to 80+ Databases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ldCat, ArticleFirst, ECO, NetFirst, ..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llions of records, 6000 full text serials, 2100 image journ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5,000 libraries, 278,573,421 search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91 TTY version, 1996 Web ver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99 New Web version </a:t>
            </a:r>
            <a:r>
              <a:rPr b="0" lang="en-US" sz="3200" spc="-1" strike="noStrike" u="sng">
                <a:solidFill>
                  <a:srgbClr val="99ccff"/>
                </a:solidFill>
                <a:uFillTx/>
                <a:latin typeface="Arial"/>
                <a:hlinkClick r:id="rId1"/>
              </a:rPr>
              <a:t>NewFirstSear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FirstSearch: The Second System</a:t>
            </a:r>
            <a:br>
              <a:rPr sz="4400"/>
            </a:b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Many New Featur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mit to library hold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mit to available full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ss-database search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nking and sor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hesau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wildca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brary custom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Goal: Retire Related Systems</a:t>
            </a:r>
            <a:br>
              <a:rPr sz="4400"/>
            </a:b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Many Legacy Requirement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Search TTY: 24x80 telnet ver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PIC: query langu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ectronic Collections Online: full text journ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Search Web (origin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Goal: Avoid All Old Problems</a:t>
            </a:r>
            <a:br>
              <a:rPr sz="4400"/>
            </a:b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Many New Variabl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function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application layer (</a:t>
            </a:r>
            <a:r>
              <a:rPr b="0" lang="en-US" sz="3200" spc="-1" strike="noStrike" u="sng">
                <a:solidFill>
                  <a:srgbClr val="99ccff"/>
                </a:solidFill>
                <a:uFillTx/>
                <a:latin typeface="Arial"/>
                <a:hlinkClick r:id="rId1"/>
              </a:rPr>
              <a:t>SiteSearc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urrent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programming language (Jav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version of UN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server hard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General Requirements</a:t>
            </a:r>
            <a:br>
              <a:rPr sz="4400"/>
            </a:b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Many with One-Line of Detail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-platf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ling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vels of us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xt-only ver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versally accessible (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DA complia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General Requirements:</a:t>
            </a:r>
            <a:br>
              <a:rPr sz="4400"/>
            </a:b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Multi-Platform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owser: Netscape and Explor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sions: 4.x (and then 3.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vaScript: available or n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reen size: large, medium, sm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rdware: Windows, Macintos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ors: down to 25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10T16:44:52Z</dcterms:created>
  <dc:creator>Authorized OCLC User</dc:creator>
  <dc:description/>
  <dc:language>en-US</dc:language>
  <cp:lastModifiedBy>Caroline Palmer</cp:lastModifiedBy>
  <cp:lastPrinted>2000-03-11T18:57:51Z</cp:lastPrinted>
  <dcterms:modified xsi:type="dcterms:W3CDTF">2000-10-30T05:09:14Z</dcterms:modified>
  <cp:revision>40</cp:revision>
  <dc:subject/>
  <dc:title>Web-Based Bibliographic and Full Text Retrieval: Which Features/Which Users?  </dc:title>
</cp:coreProperties>
</file>