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282C-2484-44B0-9391-08FBCAF9F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too many hits are inverse of reasons for too f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ite zero hit search: Britney Spears in Agricola (an agriculture data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any hits may be more serious because patrons don’t think it’s b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utterfly ballot design scandal in Palm Beach - they had the data after the 1996 election and could h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8E9-9779-4EBA-B776-F28303A7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DC7-AF14-461B-8B34-3A8D2526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E3D-B263-4BE3-A862-BD01D1D9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34C-9C81-4CC4-87D0-585C07D2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BC24-159D-484B-ACAC-B9DA2924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F0B7-E8C8-4743-885A-1673EC6B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4D1D-5F6E-42B4-9B82-D7720F7F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F91E-E882-49D7-B381-19E4C6C1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223B-F52A-4830-A45E-4DFC98AF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23F7-E676-492F-8878-B39BA835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60A0-D271-45C6-A50C-6D36B46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7A4-2187-4F1B-A217-E401BA64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E32A-B46E-441F-8942-BF6DC864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3E01-8682-4077-9395-59CAC54E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37DA-C286-4DB2-B3BC-CD59A02E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63E7-BBEE-4E78-A4F6-DC8D07D6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7F7-25E1-47F4-ACE9-E1E96330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1D9-4252-4B83-B842-3FA286AF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937-F4C7-477C-990F-59809408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A64-A83C-429A-BD44-158D8B54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8FB-57D9-4419-8FD3-F16A8986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FD8-124D-4020-ADBC-FDDFB359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26D-6015-4B97-B4EC-9C425D9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F09-CA78-4A5E-83E5-F1C640B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251F-274A-4936-BE94-2082F32D914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6980-1FD2-415D-AC38-88B1AE19C30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nitedmedia.com/comics/dilbert/archive/images/dilbert2001043045614.gif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acm.org/~perlman/" TargetMode="External"/><Relationship Id="rId2" Type="http://schemas.openxmlformats.org/officeDocument/2006/relationships/hyperlink" Target="http://www.acm.org/~perlman/" TargetMode="External"/><Relationship Id="rId3" Type="http://schemas.openxmlformats.org/officeDocument/2006/relationships/hyperlink" Target="http://www.acm.org/~perlman/" TargetMode="External"/><Relationship Id="rId4" Type="http://schemas.openxmlformats.org/officeDocument/2006/relationships/hyperlink" Target="http://www.acm.org/~perlman/" TargetMode="External"/><Relationship Id="rId5" Type="http://schemas.openxmlformats.org/officeDocument/2006/relationships/hyperlink" Target="http://www.acm.org/~perlman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clc.org/" TargetMode="External"/><Relationship Id="rId2" Type="http://schemas.openxmlformats.org/officeDocument/2006/relationships/hyperlink" Target="http://www.oclc.org/" TargetMode="External"/><Relationship Id="rId3" Type="http://schemas.openxmlformats.org/officeDocument/2006/relationships/hyperlink" Target="http://www.oclc.org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clc.org/firstsearch" TargetMode="External"/><Relationship Id="rId2" Type="http://schemas.openxmlformats.org/officeDocument/2006/relationships/hyperlink" Target="http://www.oclc.org/firstsearch" TargetMode="External"/><Relationship Id="rId3" Type="http://schemas.openxmlformats.org/officeDocument/2006/relationships/hyperlink" Target="http://www.oclc.org/firstsearch" TargetMode="External"/><Relationship Id="rId4" Type="http://schemas.openxmlformats.org/officeDocument/2006/relationships/hyperlink" Target="http://www.oclc.org/firstsearch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rst Do No Harm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Internship of Dr.Search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Search Results Expert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828440" y="3885840"/>
            <a:ext cx="67057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ary Perlm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lman@oclc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CLC Online Computer Library Cent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.Search Strate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rt with simple rules &amp; observe effec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simple rules have little impact,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n complex will fare no bett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tting users into power tools will not work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.g., browsing a large index or a thesauru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eep a low profile. Avoid forcing users into a dialog (e.g., avoid wizard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130-AD35-4F1D-83EC-A2BAD0DC69D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Zero-Hit Ru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osting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term-coun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&gt;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uggest fewer ter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osting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limi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not null </a:t>
            </a:r>
            <a:r>
              <a:rPr b="0" lang="en-US" sz="3200" spc="-1" strike="noStrike">
                <a:solidFill>
                  <a:srgbClr val="b2b2b2"/>
                </a:solidFill>
                <a:latin typeface="Times New Roman"/>
              </a:rPr>
              <a:t>// maybe not notic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suggest removing limi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A29-BD5B-4E31-BCB0-F4AE5BA984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 Many-Hit Ru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osting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&gt; 5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imi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nu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uggest adding limi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osting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&gt; 500 and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osting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&lt; 200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rank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not relev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term-coun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&gt; 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suggest relevance rank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47F-AC4D-43D8-8AAA-0BA9BEB058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.Search Implemen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emented as hierarchical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gadget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at invoke dynamic Java class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l internal state variables availa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clarative syntax in initialization fi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nguage- and platform-independent develop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677-BAA9-49D8-8337-5805E7A9C3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entation of Dr.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nte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: Easy to notice, easy to igno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nte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: Avoid being judgmental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“Your search matched too many record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crease your search result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Show me how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Refine your search results (37431)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Show me how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aced in “tips” at top of scree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anded tips showed suggestion, link to appropriate screen, and specific hel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ater automatically expanded zero-hit t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0EA-E515-4FE9-A255-E3EEED15E7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r.Search Rule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Zero-hit sugg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 fewer ter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move a li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eck spelling or browse index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stimate results in oth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available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6252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ny hit sugg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 more ter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dd a li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y the limit scre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ank by relev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81B-EA91-4885-991D-91217153FC1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s on Zero/Many Hi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ercentage of queries is main meas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rginally lower zero-hit percentage (significant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rginally lower many-hit percentage (significant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, compliance for suggested treatments is low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ill, this applies to thousands of searches a day and is comparable to all use of Hel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 complaints from libraria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A67-12B9-459B-B242-432E70AA68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 on Dr.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trained users use too few terms and the wrong terms, matching too few or too many records in half of all search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r.Search is a low-profile search results expert system that makes simple suggestions about how to improve search results, allowing users to decide which treatment is be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s surgical modification of queries next?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about informed consen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218-9574-46EA-986B-3609A25E20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age Data and Other Gui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dding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related databas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inks increased searches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per sessio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(esp. weekend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nks for expected actions are helpful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e.g., popular database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opic-specific Help links increased usa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oving Help search to top of screen increased help searches, but not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33A-18C3-4A08-A093-45BD987A9D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b search engines have brought unplanned searching to the mas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rons are not going to be tool us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rons will take some suggestions from gui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eed to get better results on first try and/or guid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re helpful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link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 tips (may be ignore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tter ordering of resul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ask-specific search scree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y be more expens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815-8A4B-4FBA-92A1-433097D9EC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 of the Tal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CLC and FirstSear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Problem: “Zero Hit” Search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brarian’s Tools versus User’s Gui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sign and Implementation of Dr.Sear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tion of Dr.Sear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ore Guides for Better Search Resul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321-7C36-4684-837D-FF7BC1DED2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etter Ordering of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oogle ranking by web links is gre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blems of relevance ranking for que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rt by Library Count (800M holding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utomatic versus Sort links in t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motes library selections – expert edi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motes available items – widely he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604-671E-414D-9306-BBFC381E41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rting by When Updat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nd “Web usability” in WorldC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st recent updates are usually the least widely hel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east widely held items are hardest to g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 (holdings): 13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webusability-default" descr=""/>
          <p:cNvPicPr/>
          <p:nvPr/>
        </p:nvPicPr>
        <p:blipFill>
          <a:blip r:embed="rId1"/>
          <a:stretch/>
        </p:blipFill>
        <p:spPr>
          <a:xfrm>
            <a:off x="5178600" y="2214720"/>
            <a:ext cx="327312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A4B-1D2F-49B3-A932-F8CA4D13C2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rting by Library Cou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st widely held are usually class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blems with new items and outda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st widely held are more likely to be in library or same reg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(holdings): 2996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5" name="webusability-libcount" descr=""/>
          <p:cNvPicPr/>
          <p:nvPr/>
        </p:nvPicPr>
        <p:blipFill>
          <a:blip r:embed="rId1"/>
          <a:stretch/>
        </p:blipFill>
        <p:spPr>
          <a:xfrm>
            <a:off x="5148360" y="2214720"/>
            <a:ext cx="333216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2FB-58F7-4117-BB53-F0E59C3C8F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ighlight Local Libra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ased on library symbol, locato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e.g., postal code), or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My Libra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monstrates that libraries are more likely to hold widely held ite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8" name="usability-holdings" descr=""/>
          <p:cNvPicPr/>
          <p:nvPr/>
        </p:nvPicPr>
        <p:blipFill>
          <a:blip r:embed="rId1"/>
          <a:stretch/>
        </p:blipFill>
        <p:spPr>
          <a:xfrm>
            <a:off x="4862520" y="2251080"/>
            <a:ext cx="3905280" cy="380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0A5-84B7-43AB-B5DF-6F9C0BCF91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sk-Oriented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Avoid the toolkit approach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- know the tas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nown item search reduces databases / indexes / op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rm paper research requires immediate access to full text, held in library, or freely available on Intern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pical searches may require multiple searches in subject, title, and keyword indexes, limited to rec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tc. (other tasks to limit complexity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30A-65B6-495E-81D0-02B4D86779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arch for Known It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838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hoose database(s) by type of i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duced op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 Keyword/Subj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tle, Author, Date, Periodical Title, ISB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rt by Library Cou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ccess = few rec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knownitem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012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0A6-C49C-474C-890E-DFF5F1FBC4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uides are not the only useful approac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serve many types of users to determine where guides may be usefu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velop guides to make search and results more usable and usefu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llect usage data to evaluate effects of gui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ffects may be small and/or apply to small grou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rst Do No Har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9ED-8D27-40D0-B30E-08B19B03EF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ary Perlm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lman@acm.or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acm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org/~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perlman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isclaimer: View expressed are my own and may not reflect official policies of OCLC.  Examples shown may not appear in similar form, if ever, in FirstSearch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24A-508E-4C75-8054-629D781A1E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CLC 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n-profit member library associ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Furthering access to the world’s information and reducing information cos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most 40,000 libraries in 74 countries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oclc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org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on Catalog 45M records, 790M holding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64D-D2AA-4BB6-BEDF-89E712612B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Search 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rstSearch used from 17,000+ libra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80+ databases with 100+ million records including millions of full text articles in 6000+ journals &amp; magazi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illions of searches per week by highly trained librarians / undisciplined patr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oclc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org/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firstsearc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553-69F8-40E4-859A-2C7041EF6D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Search Problem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Zero Hit Search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~ 25% of FirstSearch searches match no rec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ymptoms includ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rong data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erm not in index (possibly misspelle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o many ter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verly-restrictive limi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~ 25% of FirstSearch searches match 1500+ rec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o few terms or limi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eneral indexes (keyword, title, author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C4F-A51C-4099-ADBE-349EACB7C6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brarians versus Patr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braria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lan their search strategi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se indexes and thesaur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view results against expecta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r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ssume the system is intelligen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ter about two term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ew the first few recor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3F7-765C-4557-BB0E-6BE6120166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ategies to Help Patr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eneral properties of Guides versus Tool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on’t require training or use of hel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dentify / explain undesirable condi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ggest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incrementa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ourses of 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ngle-click access to improv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et users closer but not into trou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B88-8E7A-4282-B327-1756206644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ower Search Too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dexes too large to browse (1500 terms between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ut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mputer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saurus-based search is easy for librarians but is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unfathomab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o oth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935600" y="2214720"/>
            <a:ext cx="375768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1D6-FEE9-4EE2-8115-2A6C24F784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arch Gui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905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lated Subjects automates the use of thesaurus ter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sers do not need to know about cataloging with controlled vocabular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935600" y="2214720"/>
            <a:ext cx="3757680" cy="38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lman@OCLC for ToRCH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6FD-A914-4D02-971A-1F1D3E636F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April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15:21:28Z</dcterms:created>
  <dc:creator>Gary Perlman</dc:creator>
  <dc:description/>
  <dc:language>en-US</dc:language>
  <cp:lastModifiedBy>Caroline Palmer</cp:lastModifiedBy>
  <dcterms:modified xsi:type="dcterms:W3CDTF">2001-04-16T22:05:30Z</dcterms:modified>
  <cp:revision>34</cp:revision>
  <dc:subject/>
  <dc:title>First Do No Harm:  The Internship of Dr. Search, A Search Results Expert System</dc:title>
</cp:coreProperties>
</file>