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9F1B-2E5E-4BCD-A639-7EAB6839CDB6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571F-260F-44B9-A2E6-11827A01A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s have a way of becoming produc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edium project, benefit/cost max at 4, good to 16 [nielsen93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? try it yourself and double it, or tripl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will cover methods most applicable to early states of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ion methods make YOU a better critic of de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naires help you gather more structured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return later to cover other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Acceptability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ght need to weigh the scientific and human va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sk to the Su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is should be a primary ethical conc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Treatment of Subjects by 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retains responsibility for ensuring ethical pract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ness and Freedom from Explo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must clarify and honor obligations/responsi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bligation for Obtaining Informed Con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allowed to make an informed decis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 from Coerc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tection from Discomfort, Harm, &amp; Da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protected from/warned about discomfort/stress [schrier92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aining the Nature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ing Undesirable Consequ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responsible detect/remove even long-term eff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 Anonymity, Data Confidenti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tails later under specific metho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ver evaluation ear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 how success will be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-10 per hour or a small gift for accessibl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-50 for many classes of users for commercial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methods as an evalu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 -&gt;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-&gt; check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writing the report -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ng/Interpret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uomo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s always interpreting feedback with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Repeats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formed wrong intention because of poor stat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elects Wrong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oes not know current state (mod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Hits Wrong Key / Selects Wrong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coordina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/send next to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info is only available by observing real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hey perform realistic tas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we ask users for suggestions for desig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doctors ask patients what treatment they should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usability evaluation is finding problems, not getting feedback about how wonderful a desig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evaluator to focus on the most irritating point – the pink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think-aloud with a sta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sk all! -- only what is importan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would change th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offer a midpoint on the sc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quantitative information can you realistically gath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ia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rating scale have real world analogues, like letter gra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reqs) with interviews, questionnaires, paper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design) with formal methods, medium fidelity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quire new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build) with user testing, usage s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quire new build (bugs), design (e.g., layout), analysis (reqs. wr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emographics as covari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 design right is not the go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eventually need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used systems do no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ubation exercise – how to measure success (of failure) for a search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D56-4634-41D8-BCD0-6AAD191F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E1D-4F76-4C8C-8C3B-9A10959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62E-2FD8-4F7E-B2C6-A936C796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1B3-EE62-4BD0-BEB7-E0D9EFE1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F97-229B-4DE1-A4AC-6E58F54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80D-88B1-4698-A6C9-F4D3B30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CAA-2C04-4C17-96ED-AD05BD4D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F34-3462-44D8-B428-EA79E95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878-C65D-47F5-9057-7F33C8BD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D73-674A-43C9-8234-1316763A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FA4-6380-42FA-96BB-3E9A2AC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A11-2772-494F-A82B-E1CD8D9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DAA-4CF9-4F6A-9120-88317A9389D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FFC5-535A-4C95-9169-1DAE15409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J.SIGCHI.25.1.28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E.Nielsen.94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C.CHI.90.235" TargetMode="Externa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C.CHI.88.213" TargetMode="Externa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acm.org/perlman/question.cgi?form=QUIS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st-Benefit of Usability Test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Evaluation is Cost-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as94, karat90, mantei88, mayhew90, nielsen93b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s Major SW Development Cos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60% of code (then there is training and the Help De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etection of Problem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found in later stages cost more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Increase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reviews, more satisfied/produ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Reduce Cost of New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code/documentation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Shows Tangible Dollar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1 for small project, 100:1 for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038-9A72-4B4A-A5F4-09D228E9DC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D5C00-0893-4E4E-ADCE-DDC322AE3C8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valuating Before Implement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is a Mock-Up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ratory, evolutionary, throwaway [virzi8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might be added in successive versions (iterative refin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OLUTIONA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OWAWA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CF-997F-4E56-88E2-747A2FF510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14963-1876-4297-B777-258ACA96436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of Prototyp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echnical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risk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/communicate req.’s, experimental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LORATO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s of front ends are often used as a form of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 word her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vestment Before Product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effort, time, cost (too often, becomes produ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5F5-14CD-4B8D-BD23-76845AF293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7B83F-37FF-4B1A-9693-90439C424A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totype Design Too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and Paper / Draw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information without any implementation [muller9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ation / Theater (Wizard of O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functionality [gould8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/Prototype Devel.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that helps evaluation come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3B-1E68-4AA4-9763-F4CEC44670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9422E-5201-47AC-93F5-C10CC943CC9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2] User Testing Step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Use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eference focus groups, surveys; Expert insp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users to test, and how man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chmar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the users will do; different users imply different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ing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methods that suit your needs /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User i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bookk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ramework for interpreting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276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ssom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8F2-FACF-4D0C-B6DD-63AB897A9E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95DA7-BD12-4757-8BE1-98AAAE372B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Which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he System Being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may be designed for experts, other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/expected knowledge, experience, education,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ed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are proportionally samp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ed Samples: Designers/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kthroughs useful pretest, but potential limits on gener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can't put themselves in the role of a naiv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Realistic Users Must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beta users, (temp.) employees, possibly students/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14130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osenbaum 8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45C-BF78-4247-9D34-5E22D2FE6B0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B172-8742-4F3C-A59B-00CF12D013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Scre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able by screening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mat for telephone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o read, when to terminate (early, if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relevan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desired percentages (e.g., Mac vs. Windows., M/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ize all judgments (e.g., user level with ap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ey name company, product,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D72-9CF3-4B3A-9551-2ACAFAE535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B52A-8FF7-4151-96FB-38A5C19785B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1120" y="1598760"/>
          <a:ext cx="775152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19E-4A3C-48CB-98C8-1DEC3E5305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9A64B-9A28-46C4-A6BC-50995A8288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b. Sampling : How Many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Test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expensive, too much time,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Generalize fr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that our samples are representative and un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 Sens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based on larger samples are more stable/bel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0-1-MAN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evaluation, 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evaluation,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Evaluations, 3 Users is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consistency, for modest effort; most metho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Diminishing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the number of users for a quantitativ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34C-32B8-4D44-A231-D2A90DFB3E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EDA99-F960-4F5D-8202-79B6350B3E9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asks that Exercis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't test all possible uses of mo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tic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e users and provide vali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All System Functions (Content Valid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users to tour a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Reasonable Amoun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type of system, users (30-60 mins...several d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on Instructi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m, users may wander or mis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lear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evaluator should know when the task is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118-A3F7-4211-9082-EB8AADA3BB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8BE17-1132-4C8D-A620-DAB326192F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2560" y="2035080"/>
          <a:ext cx="7793280" cy="39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35080"/>
                    <a:ext cx="779328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D36-22D7-4DED-B70C-9832A0FE76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D18A4-51C3-4302-B3BB-F259D69E188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Typ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 Typ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imple to 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 and Exit, gett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ing Simple Tasks - fe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Simple Tasks (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s of Simple Tasks (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Compositions of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th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hanges the tasks, sometimes changes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ystems Must be Tested in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ts of a system are ready at different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groups of tasks for different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learned in one part may be applied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BB9-320F-4826-A2D6-46BCE3CB8C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E1327-F45E-48E2-9DEA-AC6FE6E7CDF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iographic Retriev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search, Boolean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/wildcard matches, upper/lower case, relations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/OR/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ields,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/decreasing within each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fields, user-define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formatting of selected fields, formatt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e-mail, save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0320" y="4421160"/>
          <a:ext cx="7680240" cy="15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4421160"/>
                    <a:ext cx="76802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C68-5CFA-4145-AF4B-65430F5562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B07A2-2030-469A-A810-0A9C5ADD837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by Shneide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these papers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only the titles of these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asks within Part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and papers by Foley or Van 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cited by Perlman and Niel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books by date and by author within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Tasks across Par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by Carroll and sort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date and title of papers by Hend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-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C74-9E39-4DA6-8FB2-C85435D59E3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91416-EFBB-411E-8F4F-94F742630E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uppli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s to Have o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/ Task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/ Non-disclosure For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Video Tape(s)/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Paper and Pen (or notebook comp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checklist to ensure you get th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26C-E7CF-4E3B-BB2D-89C3D2FB24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DF05D-852D-4462-A1FE-C5BFA518F6C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isruptions/Dis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windows, d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 ringer/speaker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 sign outside door (Please Do not Disturb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inds closed to limit g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puter and Check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all peripherals are installed and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up, check folder/directory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Wor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will need space for task descriptions, possibl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 screen to control glare, NumLo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373-7BF6-4BB7-AE25-287CB956BE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86AAA-8FA5-4202-8426-4A7EC189D8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sability Test in Progress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Date:     /     /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ISTUR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90A-0D28-44B0-BAAC-95659187F7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B25F9-C804-4967-BA12-A3104F8B23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t an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PA82, moroney94, mackay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 for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users will not show up, especially during holiday s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of Purpose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evaluate the system, not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User 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m collaborators, call th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Form Signing 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s what is to b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Disclosure Form S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sensitivity of trade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of rights to ownership of ideas during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99D-9D15-40CE-A2FC-EE9D1EE321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E65C5-751B-47D9-8B94-D0CD41825AE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ining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knows/has pre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record these in the 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rials, if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60A-AFE9-4580-9661-7F1C67513D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54EB4-F74D-4123-8773-5F87A2435B8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 : Ethic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Ethics of Research with Huma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 1992 Ethical Princi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cceptability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o the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Treatment of Subjects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 and Freedom from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 for Obtaining Informed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Coercion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from Discomfort, Harm, &amp;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ing the Nature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Undesirable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Anonymity, 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5C9-8BA6-454A-A8F1-E85D2B6AEA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A3993-C8EA-4E26-8ED6-3756FE82C5A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5. Data Coll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aintain Natur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 Cover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(even if reco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Avoid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L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DC-70DE-4202-AD82-F65242667A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FAC8B-40FF-420B-95C1-4E7A701C9DC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1] Introduction to General Conce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of Usabilit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s it related to other types of evalu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evaluate us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teps should be follo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methods should be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5EE-A314-4D82-BECC-94D849BACB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3A5FD-CC7A-4079-BAF0-B50773020E0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Debrief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er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You Ask Potentially Bias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equivalent condition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riefing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they could not do anything, even if they were !@/?#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that You are Evaluat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may have had problems and may feel bad/a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User for Gener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follow up with (potentially biasing)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e Data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problem areas in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FC-21B8-440F-A8D2-754531B496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334AF-71A9-46C1-BD25-EAD2B7B340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v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ng/Sa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a detailed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Disk/Fil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Video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Questionnair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ser ID to con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Your Notes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 nothing to ch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User ID to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D43-9B14-48A1-8E4E-4898243489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CFD7E-A284-4786-A36A-6086868920C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7. Interpreting Dat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ehavior (program use and comments) is attributable to different stages of system use and imply different problems and reme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at an earlier stage or low-level may obscure problems at later or higher-level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s for Interpret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ey &amp; Van Dam's Level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's Stag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uideline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CF3-9CD5-46AA-ACD7-EC0E1526A7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93096-8A7F-4250-984F-EDC1F67A8B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ley &amp; Van Dam’s Level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: Mental Models, Metap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usual to get comments at this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t this level may require a complete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: Meaning of System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omain specif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suggest changing functions to better meet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: System Structure,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nd feel issues begin to apply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re fixed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: Input / Outpu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-tuning of design (but do not start at this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problems at this level are easy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E16-E2B5-47F2-8015-5BA7D0DB56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E5D1D-E125-4FA4-87B7-F95E14BE491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’s Stages of A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ford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intention to achieve goals to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ing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inten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actions to accomplish the inten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needed speed and accurac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out progress toward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has the state of the world chan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oes this change of state me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es this affect approaching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FCA-9C3D-4CED-8C90-8601F9D2858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47CD6-B562-498A-98AD-B8C342EC72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Evalua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systems without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s (developers, designers) provide structure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 evaluators through criteria before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substitute for user testing (but can pick up some problems earlier and at lower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Checklists, Heuristic Evaluation, Cognitive Walkthroug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al Skills an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 watch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her both objective and subjec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give opinions in structured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User background questionnaires, Opinion 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watches the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C08-8C29-4949-A6C5-A91535939B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3BB14-AF5A-42B0-9599-5D267CA01A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ions for Adopting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use one method immediately, and over time add other methods to your repert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s complement each other, and none requires much training, effort, or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79C-EC40-4076-98D7-3937F46DE7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733C-2868-485C-ACDB-452C3830A0F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epends on sever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llingsley93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ck9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... near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, developers, time constraints, funds,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hey listen and make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, number,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es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(time, errors) vs.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4FB-2513-4D20-9C88-6977475CAF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EC556-3088-4418-BBEB-4FAFDE2E8CA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2560" y="1600200"/>
          <a:ext cx="7748640" cy="45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600200"/>
                    <a:ext cx="774864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408-FCDF-44B8-9C2C-EE170930536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E4828-9453-4331-9791-943C3AE53F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ion is the generic name for a set of methods based on hav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pect or examine usability-related aspec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ors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specia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y can also be software development consultants with special expertise, end us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r 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ther types of profess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ng characteristic of usability inspec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nce on jud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source of evaluative feedback on specific elemen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k &amp; Nielsen, 1994, p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213-BD41-402D-9304-C02781844D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4FDB2-2F6D-4ED8-BF5E-4C74028F7F8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ntext of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befor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eople want to use it? can people learn to us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elp people do something useful,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ve vs. Summa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improve system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estimate the overall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Evaluators vs. Us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nspection methods to provide expert opinio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out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esting can not be replaced by inspec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vs.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evaluation (testing) with users, with des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analysis (verification) with designers, wit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862-6065-4751-93EA-72ACC5391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EA1A0-A67F-4520-82B2-FD4B9BDF20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Inspec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ielsen94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BC4-4CF1-41DD-8DAD-38D58580B5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472F3-9FA8-4E77-931B-6628F45F1A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ur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/evalu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Discount Usability Engineering”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ielsen89, nielsen90, 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ittl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gh-Lev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ets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cus attention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ari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important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B48-CBF6-42EC-BCC6-BAEC6A2BE5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2C089-892E-41FF-B9ED-2681427A00D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ielsen 1993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the User's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User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learly Marked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hort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and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EB9C-EF2A-4F5F-9159-55A99612F6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73137-2FC9-4F9F-82BA-DEA6BE76CB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 1990 Principl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th Knowledge in the World and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 the user form mental models that aid syste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Structure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 for human memory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ngs Visible: Bridge the Action Gu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eedback about what can be done and what is hap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Mapp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response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the Power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impossible to do the wrong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errors will be made and design for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Else Fails, Standard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ere to existing standards unless there is a bett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D85-B0CE-4AE6-8F63-6EFF83FDDE8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37370-18B9-473A-8762-262F216F05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Merged Set of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ists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expected as they address the same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Unique Foc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ccident of omission, or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can be Merged for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in purpose i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come the evaluator's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can be Added to Address Specif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valuation of unusual appl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Another Set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52F-3424-4AFE-9927-1BE395C789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12A56-0B88-43FD-97B8-7BD1B610565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he Syste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elp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use without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easy-to-use task-oriente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dopt the User's 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ak the user's language (avoid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use of existing knowledge (familiar mental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extraneous information, steps,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hould be in a logical natur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sign for 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hortcuts (quick keys, custo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6B3-E0E0-4946-9594-401300A79C2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BC8BC-6027-40CD-910D-B519F40972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apting to the Us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ser a way to preview where to go, what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he user a way to review / return to previous 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ffordances to indicate what can be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good response compatibility between controls/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need to remember acros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ultiple views for easy compari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same term/action has the one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re is no better way, conform to 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0CD-DF59-42E5-A226-DBEF4451FC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B91D-C7C5-4DEB-ACD5-56E32F3780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eedback and Erro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imely feedback about all processes, system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difficult to mak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e the problem and suggest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learly Marked Exits and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can get out of an undesirable state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users will make errors and need to recover previous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FF1-578F-45B2-93F4-85CA658C9E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F6F40-8B9C-4A43-AF36-3D9EA961D90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erforming a 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each heuristic to many part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uristics while completing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Violations into a Database/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 records problems or observer takes notes o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385-755C-4B3D-8C41-FFD4F4D8C16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D387-CBE9-43B1-B1DD-897176EF21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orm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porting For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1120" y="1598760"/>
          <a:ext cx="7751520" cy="47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FFC-D71D-40DF-8B6F-C2CA9474964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F2B9F-E9B0-453F-831A-F0874FD931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Interface Acceptabil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ccep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Lea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icient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Re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w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jectively Ple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120" y="57150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[Nielsen 1993], p.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C3A-FBA2-4A6D-A5DD-175AAF5C81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E7BFB-7A73-4D33-8DE5-7EC8B469D2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problem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ve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ystem, violated heuristic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te problem descriptions and solutions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ner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 what is learned in styleguide to avoid futur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with discussions of problem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 evaluators find fewer problems, but training hel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EE0-1F38-4FAF-8CD2-CF5D5F2C8B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D42E5-C51D-45EF-8DF0-22F07104835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 : Analysi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 Analysi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s do not provide status-line help when pressed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ng for users to determine previous fram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ed out buttons do not provide rollover help (why gray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s do not indicate which fields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icons are horizontal but online help is vertical and differen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ns are difficult to interpret,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has to re-enter complex codes in different di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have help button, some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do not follow conventions for Enter/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828-FA54-479D-B83D-E9F8FBF970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94202-3269-4230-9E89-893BDB8DCCD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ftwar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are Walked Through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Try to Anticipa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Before Us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quire Extensiv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Half the Problems in 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: [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ewis9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230-66DF-459D-9865-4D174C7127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D9ED-512C-4EF6-972E-1AB30280737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Cognitive Walkthrough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Task in a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detailed description (prototype/specification) of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Sequence of Action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he user interface must perform for each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 Tells a Story about Use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he user would perform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Comment on Plausibility (Challe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ack of knowledge/information would caus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heuristics applied in context of doing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Knowledge Users would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representation of user knowledge of task /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blem Predictions to Mak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problem solving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DBB-EBEE-4D18-B940-544C600AB1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CE2FF-2C97-4E06-A702-1F2262BF27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bservational Do’s and Don’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Guid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see how they naturally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User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on't let them get too frus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User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eutral prompts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observe the unaide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t Yourself/Developers Get De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of the humor of the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788-2297-42FD-8803-B446C2F570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DD3E1-53B2-4D7F-8D7E-EE7F56CB68E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ed Questions/Prom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se prompts from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thinking/trying-to-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rompt to get the user t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in this situation/now/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y bias the user to think in a different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describe the parts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get in the way of natur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expect will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user suggests trying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at what you expected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the user initiates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9A7-3200-4CA3-B8CB-490C9FD7F5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F514A-12B4-429E-BCD5-4DE4D251B4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Questions/Prompts to Avoi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at'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bottom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lp was on the previous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you do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do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t’s okay to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 bug.  Remember we told you some parts might not work? You’ve discovered something valuable to our develo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D6B-EC48-427E-B736-9826863DEE93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52493-97BB-424E-9753-15F6E4E4C7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Tasks for the Observ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users know what to do at each s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rs complete tasks (confidentl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use onlin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misconceptions /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users frust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detect and recover from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DAD-26A4-49C9-B820-A76CAAF1A2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0A3AD-B4BE-43A9-8DA1-25AE7511636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ather data from many users/plac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presenting a consistent (unbiased)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User Interfac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for UI Satisfaction (QU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Questionnaires,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Ques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Questionnair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C6F-BC7B-470E-829A-D870026E82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7C637-F082-46ED-A6D5-0CE3B26FE69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Background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to Ad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creen Users Before/Aft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lude users w/out prerequisite or with unwanted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sers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ble users try different versions of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ore Trends Dur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find some interesting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t is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be obtainabl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95B-0911-478A-A0DE-FAB5E7F858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3A5C7-349C-427B-A03B-BEB7DCD034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I Development Problem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s, experts, occasional use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differences can overwhelm other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, business, educational, entertainment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types, CRT, hi-res, voice, V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s (concerns about bad revie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s (concerns about cost ce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(creative contributions, productiv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5E1-A2A9-4CAF-A701-EA485EDC70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63EB3-8638-49AC-84A5-D1A41258DA8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User Background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me User Background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 ranges can be obtained from exact age, but not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der usually unrelated to performance, not always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e, marital status, children, eye-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Origin, N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test internation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(Concentration or Special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level more informative than highest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kills (e.g., library) or aptitudes (e.g., spa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rical, management, engineer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xperience /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years, how intensive, formal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graphical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applications, which brands, which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BA2-FD03-41F4-84CA-0F27508CD5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DD695-28D0-4397-84F8-78D5B4C88C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imple User Interface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sert your questions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2B3-5D4E-491D-8949-7215258B16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75EB7-8507-4C41-A77E-3F2AA9DF93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1676520"/>
          <a:ext cx="775044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504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992-3F5C-4514-B8EF-BA718AA3BCD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BD3AA-C915-42C3-B576-C10DBB75C4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l Runn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76520"/>
          <a:ext cx="77184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184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CCB-586E-4E24-A6CB-E82B6AD866F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2F21C-4F1B-4F53-986A-E62C64A3E27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nal Impress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677960"/>
          <a:ext cx="775152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77960"/>
                    <a:ext cx="77515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90B-7538-46E5-8322-C4E45B0F2C1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7B421-E881-4D22-AA95-54248D20160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itive / Negativ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posi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391-BBC8-4708-9ACF-47609F7348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91E6D-D101-437C-98B8-1E002F07C9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men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your agreement with the following stateme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ng the system you just tried to the previous version / the competition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7-point rating scale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disagree / disagree / mildly disagree / neutral / mildly agree /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A (Not applicable) (if applic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om for comments on each question/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questions that are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FB3-21A3-415F-95DA-6043DFBF89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D5FEC-3E05-4C37-92F3-1ED36DD31C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naire for UI Satisfaction (QUI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d se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point (0-9 ) semantic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Reaction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(4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pabilities (5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[chin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7ED-A093-4C8E-A377-36E28DC3F8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7CF64-5DE3-4104-A971-8FF042DE01B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all Rea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ble ..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ing ..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power .. adequat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l .. sti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id ..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8A-0192-4796-801A-8E3E0C18FF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4D92F-4346-4DC0-9F9D-2A2FF76056C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cree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characters on the screen – hard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ing simplifies task – not at all .. very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information – confusing .. very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screens – confusing .. very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CDF-912D-407F-970B-06658F1032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711D5-FC6D-45F7-A000-A1CA4AE778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terative Development Lifecycl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741320"/>
            <a:ext cx="7772400" cy="42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53E-5998-483F-A5A5-E1BE2550ED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728BA-EA82-4A8D-AB4F-E2C1D04614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rminology / Inform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erms throughout – inconsistent ..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related to task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messages – inconsistent ..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s for input – confusing ..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progress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 – unhelpful ..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833-9D22-4F7C-8B3E-EF809DA796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2D7C3-56A4-486E-A7E5-5422EE98F02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peration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ing by trial + error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commands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tasks straightforward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ssages – unhelpful ..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materials – confusing ..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6A1-6635-4382-8B53-F1B2D1220A8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DDB06-0606-41C2-ADC9-014E661D625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ystem Cap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peed – too slow .. fas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reliability – unreliable ..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nds to be – noisy ..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mistakes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all levels of users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9F0-B84B-428A-8E7A-5A408D0F9A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D64D9-9568-41CA-A584-92B6CC1A7D7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nline Ac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5334120" cy="511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186-4D12-4D71-B0D8-1FB2F4543EC5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04BB4-41F6-4C9B-ABEF-0DE8778D92A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igning Questionnaires/Interview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per, Avoid Expensiv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s have many interpersonal issues/confo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hould have clear questions with interpretabl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 forms allow much more data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s allow follow-up to probe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naires Appear Short,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eys should not look too long or they won’t be answ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what you real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 Few Regular Form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five differ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nsistent labels and directions (e.g., low is b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sitive forms; avoid (double) negative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D30-1D5E-4A64-84F2-21CAA93616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EFA82-81CC-43D4-A3AA-8CD24EDBF1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igning Questionnaires/Interview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ask TRUE/FALSE questions (can recode scales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-point scales are common (3 degrees, 2 directions, 1 neu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number forces user preference, but user may not li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 endpoints with clear labels (users will avoid the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mantic differentials, Likert scales to allow 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-Test Questions to Ge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ere will be usabi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ambiguity, avoid bias, add missing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rrelated questions to test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Easy Cod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using paper, all answers line up for easy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presentative/Stratifi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return rates according to strata; guard against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31B-AE3B-4CDE-9EC8-3FB991BAB1B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0B189-255F-4BD8-A659-E3F4FD26BF9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 Ty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tone Scale (min ..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on a scale of 1 (worst) to 10 (b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rt Scale (left, center, right, modif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base – bad – no opinion – good – very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disagree – disagree – neutral – agree – strongly a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Differential (-ive, +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ng ..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less ..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hoice (A, B, C, D, NOTA, AOTA,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(with range) or Perc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hours per day do you use compu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nswer / Fre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the five best/worst featu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736-C77F-4F1E-8DD8-74880DC71C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81E7F-112B-43B4-B7BF-9DCAF93EEEA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nalysis of Questionnaire Dat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the Analysis Form to th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te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demographics as covar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verages, but use histograms to show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te Textua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62120" y="4038480"/>
          <a:ext cx="6858000" cy="2184480"/>
        </p:xfrm>
        <a:graphic>
          <a:graphicData uri="http://schemas.openxmlformats.org/drawingml/2006/table">
            <a:tbl>
              <a:tblPr/>
              <a:tblGrid>
                <a:gridCol w="3276360"/>
                <a:gridCol w="914400"/>
                <a:gridCol w="990720"/>
                <a:gridCol w="838080"/>
                <a:gridCol w="838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Reaction to the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ible .. wonderf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.. e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ing .. satisfy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power .. adequate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l .. simul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 ..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AA0-00C6-4129-A68E-43D70E4A39F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55A55-EACB-4F4F-B693-478DB0AD78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7] The Usability Re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he Usabil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(s)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Answ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Not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ed Reme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d User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ment Process (scree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ed Us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2F7-2CBB-4871-9DCF-34450FA306E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66BF8-2187-4830-BCDE-72C6F3A3D5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7] The Usability Report (cont’d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to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 an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materials (tas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ed measures (videos, logs, questionnai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(post-test surv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al data (logs in append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data (rat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positive/negative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from debrie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8C1-3051-4D51-9559-65A90BE90E8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D7A80-8D17-478F-9D5A-E7EB474BD8F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for System Developmen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ystem Usability and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user satisfaction and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ufficiently low usability, there is no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usability will improve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 Before Costl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apply to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minimize work by evalu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ttle Training by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, not just specialists, should be able to 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erhaps suggest possible solutions (maybe for next re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840-E7E2-42FA-8F47-DA5285F402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4CC9C-8704-44AD-A873-3DE58B4161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8] Summary and Conclus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for Usabilit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 with Video (late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Instrumentation (late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valu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[sullivan9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 Analysis [whiteside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nalysis [card83, gray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Experiments [karat88, landauer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erbal Protocol Analysis [prasse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7EB-1422-4FCC-9E45-FF5FAFA534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3B622-6DCC-44B6-B188-D36A84299C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8] Summary and Conclusion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y Everyone Should Evalu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is more art tha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valuation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detection = lower repair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Designs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to know usability befor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and Useful Method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little training an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ut and evaluate,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5CD-021C-4771-BECF-280F62115C7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93C76-8A30-49FC-913A-FD2E828447F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tivation for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Inadequate Intuition Abou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design is a skille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Be Able to Measure Goo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we do not know if we are doing a goo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Bad at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what users want/need, of how they will re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nder/Overestimat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skills, their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 Ordinar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hard for us to imagine their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uild Too Many Unevalu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't know what are the parts with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027-C2BC-4025-8D16-A0A5D629E1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34AAF-D170-4EA3-8FA8-7C7396FD987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02:20:45Z</dcterms:created>
  <dc:creator>Caroline Palmer</dc:creator>
  <dc:description/>
  <dc:language>en-US</dc:language>
  <cp:lastModifiedBy>citrixuser</cp:lastModifiedBy>
  <dcterms:modified xsi:type="dcterms:W3CDTF">2007-01-30T19:31:51Z</dcterms:modified>
  <cp:revision>72</cp:revision>
  <dc:subject/>
  <dc:title>Practical Usability Evaluation</dc:title>
</cp:coreProperties>
</file>